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4129-F8AD-4263-8296-5B8144F30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CCEE-A72D-4231-9B7D-FA7A5F595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63DE-D701-446A-900D-0BF332937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A2C5-1677-4A1C-B6CE-DF2D1839D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91A6A-AA98-48AF-BB72-3227209F8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1FA99-E2E3-4431-A903-9FAD144BE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FE6CC-2A77-4D2B-A9D3-2BCAE7541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AD5B1-2447-40D7-8CED-9B524EF68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FDB98-8C02-450A-AC20-25D8BFCFF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40B90-9A51-456F-BB2D-AD379E555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44447-189F-42BA-BBF6-B77113D4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4A4A-46BD-48FB-86A7-445639D04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7E351-4971-44D8-8675-3867968C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C86C6-7318-4C11-AEEB-5E96ED69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65B15-9562-4D65-ADC5-56181F106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9713A-9659-4FF4-838C-83A2868BA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E5C06-805D-4969-BE86-6619FE427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94CA-1B02-4D87-81D3-26FDB20F0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4784-41CA-4531-8A2B-68B170F5A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478F-20D1-487D-BFD2-5C4C7D74C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32F5-9032-47C9-971A-C0613EE4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F341-5E72-40F3-8EC2-1BC7788B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8E78-1FB0-4355-A625-404FEC73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9A48-2E24-476A-9C46-BEE4D74D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C3827-A0B7-41A3-8B22-21797C711EC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CD249-3DA2-4125-8971-461622CDE7D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0000"/>
                </a:solidFill>
                <a:latin typeface="Times New Roman"/>
              </a:rPr>
              <a:t>УПРОЩЕНИЕ ВЫРАЖЕНИЙ</a:t>
            </a: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116000" y="4437000"/>
            <a:ext cx="6985080" cy="3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Вычислите значение выражения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+ 3 + 5 + 7+   ...   +53 + 55 + 57 + 5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Заполните пропуски числами:</a:t>
            </a:r>
            <a:br>
              <a:rPr sz="3200"/>
            </a:b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9 • 27 + 31 • 27 = (69 + 31) • 27 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2 • 87 — 102 • 87 = (202 — 102) • 87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77 • 49 + 49 • 23 = (977+   ... )•   ...  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63 • 24 — 163 • 24 = (263 —   ... )•   ...  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38 • 90 —238 • 90 = ( ...   —   ... ) • 90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3 • 7 + 603 • 93 = ( ...   +   ... )•   ...  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67280" y="220500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66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443640" y="2421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00"/>
                </a:solidFill>
                <a:latin typeface="Times New Roman"/>
              </a:rPr>
              <a:t>27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076720" y="2781360"/>
            <a:ext cx="5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524720" y="306864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00"/>
                </a:solidFill>
                <a:latin typeface="Times New Roman"/>
              </a:rPr>
              <a:t>87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148360" y="36450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00"/>
                </a:solidFill>
                <a:latin typeface="Times New Roman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12000" y="357336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00"/>
                </a:solidFill>
                <a:latin typeface="Times New Roman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93080" y="3645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00"/>
                </a:solidFill>
                <a:latin typeface="Times New Roman"/>
              </a:rPr>
              <a:t>49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651640" y="414972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00"/>
                </a:solidFill>
                <a:latin typeface="Times New Roman"/>
              </a:rPr>
              <a:t>1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659640" y="414972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00"/>
                </a:solidFill>
                <a:latin typeface="Times New Roman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740720" y="414972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00"/>
                </a:solidFill>
                <a:latin typeface="Times New Roman"/>
              </a:rPr>
              <a:t>2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284720" y="472428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00"/>
                </a:solidFill>
                <a:latin typeface="Times New Roman"/>
              </a:rPr>
              <a:t>4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80000" y="47242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00"/>
                </a:solidFill>
                <a:latin typeface="Times New Roman"/>
              </a:rPr>
              <a:t>2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524720" y="479736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00"/>
                </a:solidFill>
                <a:latin typeface="Times New Roman"/>
              </a:rPr>
              <a:t>18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11640" y="53006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19640" y="530064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00"/>
                </a:solidFill>
                <a:latin typeface="Times New Roman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12000" y="53006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00"/>
                </a:solidFill>
                <a:latin typeface="Times New Roman"/>
              </a:rPr>
              <a:t>6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380360" y="537372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00"/>
                </a:solidFill>
                <a:latin typeface="Times New Roman"/>
              </a:rPr>
              <a:t>60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4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0000"/>
                </a:solidFill>
                <a:latin typeface="Times New Roman"/>
              </a:rPr>
              <a:t>После применения распределительного свойства </a:t>
            </a:r>
            <a:br>
              <a:rPr sz="2800"/>
            </a:br>
            <a:r>
              <a:rPr b="1" lang="en-US" sz="2800" spc="-1" strike="noStrike">
                <a:solidFill>
                  <a:srgbClr val="420000"/>
                </a:solidFill>
                <a:latin typeface="Times New Roman"/>
              </a:rPr>
              <a:t>упростите выражения:</a:t>
            </a:r>
            <a:br>
              <a:rPr sz="2800"/>
            </a:b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68 + а) • 2 = 68 • ...   + 2а =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—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7) • 5 = 5   ...   —7 • 5 =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7 • (14 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=   ...   •   ...   —17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3 • (2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=   ... • 2+   ... у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35280" y="1989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19640" y="21337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36 + 2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76720" y="285264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64000" y="2924280"/>
            <a:ext cx="14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b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 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76720" y="3716280"/>
            <a:ext cx="8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11640" y="371628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84720" y="3789360"/>
            <a:ext cx="203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38 – 17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71640" y="4437000"/>
            <a:ext cx="73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95640" y="4437000"/>
            <a:ext cx="95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076720" y="4581360"/>
            <a:ext cx="15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6 + 1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0000"/>
                </a:solidFill>
                <a:latin typeface="Times New Roman"/>
              </a:rPr>
              <a:t>Объясните, как упростили выражения: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х + х =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х+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х =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1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х =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х =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х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 — а =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 —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= (1 — 1) •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= 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= 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стно упростите выражения и запишите результат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т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т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 + У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 — п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050920" y="3860640"/>
            <a:ext cx="88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4292640"/>
            <a:ext cx="7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411280" y="4869000"/>
            <a:ext cx="11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79640" y="5373720"/>
            <a:ext cx="37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0000"/>
                </a:solidFill>
                <a:latin typeface="Times New Roman"/>
              </a:rPr>
              <a:t>Упростите устно выражения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+ 3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0х + 6х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8у — 2у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2х —8х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5р — 5р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7х + 7х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у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—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9х+ х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 p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620040" y="4005360"/>
            <a:ext cx="1628640" cy="20876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627280" y="1773360"/>
            <a:ext cx="88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700360" y="2205000"/>
            <a:ext cx="11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771640" y="2637000"/>
            <a:ext cx="10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843280" y="3068640"/>
            <a:ext cx="13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16360" y="3500280"/>
            <a:ext cx="74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56000" y="3860640"/>
            <a:ext cx="131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56000" y="4365720"/>
            <a:ext cx="66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797360"/>
            <a:ext cx="11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69800" y="5229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Закончите запись решения каждого уравнения:</a:t>
            </a:r>
            <a:br>
              <a:rPr sz="3200"/>
            </a:b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).   4х+ 4х = 424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8х =  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х = 424 : 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х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).   15у- 8у = 714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7у =   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 = … :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).   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+ 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= 640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= 6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=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79640" y="2060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773080" y="2492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08000" y="306864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908000" y="3789360"/>
            <a:ext cx="8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63640" y="429264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56000" y="42210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63640" y="465300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60360" y="551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32000" y="595008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979640" y="59500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012000" y="3429000"/>
            <a:ext cx="21603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9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5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Закончите запись решения каждого уравнения:</a:t>
            </a:r>
            <a:br>
              <a:rPr sz="3200"/>
            </a:b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).   4х+ 4х = 424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8х =  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х =  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).   15у- 8у = 714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7у =   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 = 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).   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+ 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= 640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= 6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=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).  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 – k = 7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… = 7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 =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).   9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z = 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z =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z =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08000" y="2133720"/>
            <a:ext cx="14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908000" y="2637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08000" y="357336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3640" y="4005360"/>
            <a:ext cx="99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87280" y="5013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333800" y="544500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79640" y="5445000"/>
            <a:ext cx="88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51640" y="2133720"/>
            <a:ext cx="45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12000" y="2637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227640" y="3573360"/>
            <a:ext cx="117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1440" y="40766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76500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0000"/>
                </a:solidFill>
                <a:latin typeface="Times New Roman"/>
              </a:rPr>
              <a:t>Продолжите по линейке стороны треугольника так, чтобы получились три луча. Начало луча должно совпадать с вершиной треугольника. </a:t>
            </a:r>
            <a:br>
              <a:rPr sz="2400"/>
            </a:br>
            <a:r>
              <a:rPr b="1" lang="en-US" sz="2400" spc="-1" strike="noStrike">
                <a:solidFill>
                  <a:srgbClr val="420000"/>
                </a:solidFill>
                <a:latin typeface="Times New Roman"/>
              </a:rPr>
              <a:t>Обозначьте их буквами и сделайте записи.</a:t>
            </a:r>
            <a:br>
              <a:rPr sz="2400"/>
            </a:br>
            <a:endParaRPr b="0" lang="en-US" sz="2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39640" y="2060640"/>
            <a:ext cx="8229600" cy="40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19640" y="2852640"/>
            <a:ext cx="3384360" cy="2376720"/>
          </a:xfrm>
          <a:prstGeom prst="rtTriangl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3419640" y="2133720"/>
            <a:ext cx="0" cy="790560"/>
          </a:xfrm>
          <a:prstGeom prst="line">
            <a:avLst/>
          </a:prstGeom>
          <a:ln w="381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32720" y="5229360"/>
            <a:ext cx="1655640" cy="0"/>
          </a:xfrm>
          <a:prstGeom prst="line">
            <a:avLst/>
          </a:prstGeom>
          <a:ln w="381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826920" y="5229360"/>
            <a:ext cx="2592720" cy="0"/>
          </a:xfrm>
          <a:prstGeom prst="line">
            <a:avLst/>
          </a:prstGeom>
          <a:ln w="381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19640" y="2421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349800" y="1916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732720" y="4724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72560" y="5002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028000" y="4724280"/>
            <a:ext cx="3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987640" y="4797360"/>
            <a:ext cx="3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26920" y="479736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5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Буквами обозначены прямые. </a:t>
            </a:r>
            <a:br>
              <a:rPr sz="3200"/>
            </a:b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Запишите пары пересекающихся и пары    непересекающихся прямых.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79280" y="2205000"/>
            <a:ext cx="8445600" cy="4302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332000" y="2852640"/>
            <a:ext cx="93636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468000" y="2924280"/>
            <a:ext cx="2158920" cy="100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5651280" y="2637000"/>
            <a:ext cx="2160360" cy="158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796000" y="2781360"/>
            <a:ext cx="1584360" cy="17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04560" y="349884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312200" y="2562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560920" y="3786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37440" y="4052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13:53:49Z</dcterms:created>
  <dc:creator>terexova</dc:creator>
  <dc:description/>
  <dc:language>en-US</dc:language>
  <cp:lastModifiedBy>terexova</cp:lastModifiedBy>
  <dcterms:modified xsi:type="dcterms:W3CDTF">2007-12-14T20:20:48Z</dcterms:modified>
  <cp:revision>26</cp:revision>
  <dc:subject/>
  <dc:title>Слайд 1</dc:title>
</cp:coreProperties>
</file>