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7.png" ContentType="image/png"/>
  <Override PartName="/ppt/media/image9.gif" ContentType="image/gif"/>
  <Override PartName="/ppt/media/image10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0DA-F8CA-47F7-A666-3F1F6020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FF6-443D-4C65-9BF5-6ED9DD17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381-FCB4-4D38-BEC3-4954F609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CA2-EE26-419D-AE78-63E3F454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8C9C-454E-49EE-9719-F882D274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3C35-A491-4CFE-B779-16C9EE78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8ABE-6A6B-4A1C-96D0-EC7B324B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ADC3-8991-46AE-9806-C744C1F5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9C3F-1700-4454-ADC5-7803312B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4962-7E6E-4391-B94D-E03F2244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F757-4BC4-4E10-9051-263DBD06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115-21EC-45FD-B283-7B8AE3FB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79B3-D509-4927-84B3-2642F8A4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D351-6524-4EA2-9362-4901043A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0D11-68EC-496A-95AB-DC866491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8C12-8C94-4990-A808-25983225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8D05-85CA-43C8-952B-22B09349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206-8B13-46EE-B6D8-095D1FF7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132-F996-413E-86BC-9C9E0972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146-EC29-426F-ABDF-128FDB3B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048-5B92-4A79-9BD4-3956AC7D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E78-E50C-4727-AA78-0EB34264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B8E-E353-497C-AC11-94839E7C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2A7-9F15-4C14-B284-235954A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106E-483F-43DB-89C9-90C8773446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60D9-EDEA-4671-8E00-2B50627590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Меньше или больше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3228840"/>
            <a:ext cx="26654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Составьте из двух неравенств одно (двойное) неравенство и запишите его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100 &gt; 95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5 &gt;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800 &gt; 600,       600 &gt; 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15 &lt; 20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&lt;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0 &lt; 7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7 &lt;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каждом из лучей отмечены точ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375)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(17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0), С (100 0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овите координаты ближайших точек, лежащих на лучах слева и справа от каждой из данных то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На схеме точками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А, В и С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обозначены автомашины; лучи показывают направления их движения. Назовите обозначение направления движения каждой машины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6480360" cy="4060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1539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Выпишите результаты действий в порядке возрастания; запишите по порядку соответствующие им буквы и прочитайте математический термин. Что он обозначает?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— 150              120 : 40                         51 :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                        А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+ 46                            0: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                                  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-8                             300 • 400                    15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11280" y="5373720"/>
            <a:ext cx="45720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Решите кроссворд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88000" y="1719360"/>
            <a:ext cx="3898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горизонтал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165b0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Знак математического действия. </a:t>
            </a:r>
            <a:r>
              <a:rPr b="0" lang="en-US" sz="2000" spc="-1" strike="noStrike">
                <a:solidFill>
                  <a:srgbClr val="165b0b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апись из одной или нескольких цифр. </a:t>
            </a:r>
            <a:r>
              <a:rPr b="0" lang="en-US" sz="2000" spc="-1" strike="noStrike">
                <a:solidFill>
                  <a:srgbClr val="165b0b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асть прямой, соединяющая две точки. </a:t>
            </a:r>
            <a:r>
              <a:rPr b="0" lang="en-US" sz="2000" spc="-1" strike="noStrike">
                <a:solidFill>
                  <a:srgbClr val="165b0b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ногоугольник. </a:t>
            </a:r>
            <a:r>
              <a:rPr b="0" lang="en-US" sz="2000" spc="-1" strike="noStrike">
                <a:solidFill>
                  <a:srgbClr val="165b0b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атематическое действие. </a:t>
            </a:r>
            <a:r>
              <a:rPr b="0" lang="en-US" sz="2000" spc="-1" strike="noStrike">
                <a:solidFill>
                  <a:srgbClr val="165b0b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таринная мера 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вертикал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Часть прямой. </a:t>
            </a:r>
            <a:r>
              <a:rPr b="0" lang="en-US" sz="2000" spc="-1" strike="noStrike">
                <a:solidFill>
                  <a:srgbClr val="165b0b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еометрическая фигура. </a:t>
            </a:r>
            <a:r>
              <a:rPr b="0" lang="en-US" sz="2000" spc="-1" strike="noStrike">
                <a:solidFill>
                  <a:srgbClr val="165b0b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атематическое действие. </a:t>
            </a:r>
            <a:r>
              <a:rPr b="0" lang="en-US" sz="2000" spc="-1" strike="noStrike">
                <a:solidFill>
                  <a:srgbClr val="165b0b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пражнения, выполняемые с помощью рассуждений и вычислений. </a:t>
            </a:r>
            <a:r>
              <a:rPr b="0" lang="en-US" sz="2000" spc="-1" strike="noStrike">
                <a:solidFill>
                  <a:srgbClr val="165b0b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исло разрядов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859280" cy="3529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203640" y="5589720"/>
            <a:ext cx="18669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записях пар чисел одинаковыми буквами зашифрованы одни и те же цифры. Сможете ли вы сравнить эти числа? Запишите вместо точек один из знаков     &lt; , = или &gt; так, чтобы получились верными 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ХА … КИТ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ШАДЬ … ЛОШАД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8ВОО … А6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Поясните, почему верны неравенства, в которых некоторые цифры стерты и обозначены звездочками: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3 * *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* 9 *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9 * * 5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 * * 1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Из данных цифр Филя должен составить запись самого маленького восьмизначного числа.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Помогите Филе решить задачу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8388360" cy="2803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32000" y="2349360"/>
            <a:ext cx="1428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полните таблицу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2421000"/>
          <a:ext cx="8136000" cy="2087280"/>
        </p:xfrm>
        <a:graphic>
          <a:graphicData uri="http://schemas.openxmlformats.org/drawingml/2006/table">
            <a:tbl>
              <a:tblPr/>
              <a:tblGrid>
                <a:gridCol w="216000"/>
                <a:gridCol w="2158920"/>
                <a:gridCol w="984600"/>
                <a:gridCol w="684000"/>
                <a:gridCol w="604800"/>
                <a:gridCol w="684000"/>
                <a:gridCol w="829080"/>
                <a:gridCol w="604800"/>
                <a:gridCol w="622080"/>
                <a:gridCol w="747720"/>
              </a:tblGrid>
              <a:tr h="654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^^"^_&gt;'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м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н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4653000"/>
            <a:ext cx="123660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акой поставить знак &lt; или &gt;?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бъясните свой выбор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1**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75***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3**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*8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а) 8 &lt; 12 и 7 &lt; 8;       б) 9 &gt; 5 и 10 &gt; 5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Можно ли из данных неравенств составить двойное неравенств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Если можно, назовите ег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16720" y="3716280"/>
            <a:ext cx="1440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5 &lt; 40 &lt; 95;        19 &gt; 18 &gt; 17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овите неравенства из которых составлено двойное нераве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1440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В таблице указаны высоты некоторых башен Кремля (вместе со звездами). Запишите названия башен по порядку, начиная с самой высокой.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71640" y="1619280"/>
            <a:ext cx="71294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9:54:21Z</dcterms:created>
  <dc:creator>terexova</dc:creator>
  <dc:description/>
  <dc:language>en-US</dc:language>
  <cp:lastModifiedBy>terexova</cp:lastModifiedBy>
  <dcterms:modified xsi:type="dcterms:W3CDTF">2007-11-10T17:35:13Z</dcterms:modified>
  <cp:revision>44</cp:revision>
  <dc:subject/>
  <dc:title>Меньше или больше</dc:title>
</cp:coreProperties>
</file>