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6.png" ContentType="image/png"/>
  <Override PartName="/ppt/media/image7.gif" ContentType="image/gif"/>
  <Override PartName="/ppt/media/image8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091-AB3C-42BC-86B1-1F973CE7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F0A-3B8A-4416-8D30-AD2D9FA6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AED-E26F-46E9-B9AB-8168C935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024-D985-4C85-8C48-356B2CA3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DC0A-9450-4F64-B1F0-83760747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C33D-66D6-4256-8461-D986953D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D42F-EB0B-49A8-8C86-3D88332F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DE9A-C68B-48F5-B663-8C8DD5F6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F7E4-E284-4EC6-B169-26D20F9F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A877-8BCC-4FB0-8009-FB499B5E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193B-CAF5-40B7-8E89-4C0071A5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796-0408-407C-985D-94246E17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CB55-F02D-4265-8F5B-77EDC3DC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EB67-2E58-4A09-85BF-AFD123B1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EF91-DA14-4937-8166-40594A49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ED2C-A688-4D6C-9185-B88D12F5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1F60-EFB5-4B6A-8AC4-A3E4633E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FA0-A7E5-4EB9-92FD-0D059269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234-79FD-4086-9860-CC045416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7AD-1AD6-43A5-8071-5229BB5D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2F9-7CFF-4C25-AF15-028791B9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9E0-AB79-438C-994D-37350330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9AC-5ACD-4C9C-89D5-15C2D207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75D-3844-4B89-8C0C-F5473C7C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FD08-CB0B-4A58-9C10-B2943EA973C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7254-FCDA-4DE2-86CA-0FE384162BD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БУКВЕННАЯ ЗАПИСЬ СВОЙСТВ СЛОЖЕНИЯ И ВЫЧИТАНИЯ</a:t>
            </a: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 flipH="1">
            <a:off x="2195280" y="4941720"/>
            <a:ext cx="6624360" cy="5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404640"/>
            <a:ext cx="82440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Запишите: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ереместительное свойство сложения с помощью</a:t>
            </a:r>
            <a:br>
              <a:rPr sz="3200"/>
            </a:b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укв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х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и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k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очетательное свойство сложения, используя букв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m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)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войство сложения с нулем с помощью буквы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Из трех чисел, обозначенных буквами а,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, с, одно</a:t>
            </a:r>
            <a:br>
              <a:rPr sz="3200"/>
            </a:b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число является суммой двух других. Объясните, почему в каждой тройке таких чисел всегда найдется число,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авное разности двух других чисел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риведите приме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580000" y="115920"/>
            <a:ext cx="1498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Из данных чисел и знака &lt; составьте верные 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двойные неравенства</a:t>
            </a: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а)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8, 12, 15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б)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48, 35, 10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в)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20, 7, 16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г) 100, 360, 200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24836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Определите, верны ли равенства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х — (а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+ 12) =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х — а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+ 12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(30 + а) — </a:t>
            </a: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 =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30 + (а — Ь)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(М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+ </a:t>
            </a: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—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А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=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(М — А) — </a:t>
            </a: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X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— К — У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= </a:t>
            </a: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X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— (К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+ У)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Назовите те, которые являются неверными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69780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Оцените работу Тани, которая по выражению 81 — </a:t>
            </a:r>
            <a:r>
              <a:rPr b="1" i="1" lang="en-US" sz="2800" spc="-1" strike="noStrike">
                <a:solidFill>
                  <a:srgbClr val="006666"/>
                </a:solidFill>
                <a:latin typeface="Verdana"/>
              </a:rPr>
              <a:t>(х </a:t>
            </a: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+ </a:t>
            </a:r>
            <a:r>
              <a:rPr b="1" i="1" lang="en-US" sz="2800" spc="-1" strike="noStrike">
                <a:solidFill>
                  <a:srgbClr val="006666"/>
                </a:solidFill>
                <a:latin typeface="Verdana"/>
              </a:rPr>
              <a:t>у) </a:t>
            </a: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придумала такую задачу: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Два мастера получили заказ на изготовление 81 игрушки. Через несколько дней работы одному мастеру осталось сделать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х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игрушек, а другому —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у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игрушек. Сколько игрушек сделали оба мастера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588000" y="5084640"/>
            <a:ext cx="1943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11640" y="1989000"/>
            <a:ext cx="4464000" cy="43135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102960"/>
            <a:ext cx="864216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Дядя Федор, Матроскин и Шарик нашли клад со старинными золотыми и серебряными монетами. Серебряные монеты составляли четвертую часть клада. Когда они пересчитали золотые монеты, то их оказалось ровно 600. Сколько было всего монет?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042920" y="2492280"/>
            <a:ext cx="1728720" cy="2160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476360" y="4149720"/>
            <a:ext cx="2448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764640"/>
            <a:ext cx="82440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Покажите, как можно разрезать фигуру на 6 одинаковых по форме треугольников.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24000" y="2428920"/>
            <a:ext cx="8569080" cy="3521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432560" y="4149720"/>
            <a:ext cx="1355760" cy="1727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132000" y="4581360"/>
            <a:ext cx="863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32000" y="4581360"/>
            <a:ext cx="0" cy="935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581360"/>
            <a:ext cx="863640" cy="935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32000" y="3573360"/>
            <a:ext cx="935280" cy="1008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24000" y="4581360"/>
            <a:ext cx="935280" cy="935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9:06:47Z</dcterms:created>
  <dc:creator>terexova</dc:creator>
  <dc:description/>
  <dc:language>en-US</dc:language>
  <cp:lastModifiedBy>terexova</cp:lastModifiedBy>
  <dcterms:modified xsi:type="dcterms:W3CDTF">2007-12-17T17:35:00Z</dcterms:modified>
  <cp:revision>25</cp:revision>
  <dc:subject/>
  <dc:title>Слайд 1</dc:title>
</cp:coreProperties>
</file>