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79A-04C7-4FD0-8B8E-0981AE6F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DF4-231E-4C34-BA57-A978593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A17-9FB9-4180-AA59-F3955C73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865-F125-45EA-8465-0AA21EC3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386-81FE-4BB0-9600-13F30DF4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9B5-5171-43C5-8AA4-341307E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370E-5FCC-42D1-AECA-8579D1E4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48D-E454-4976-AC62-9DF26220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60A-C595-419B-B4A9-EAB480BD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B40D-5703-4E1F-A031-E4CB2837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79C-EC58-42D8-9F12-0433C8A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F45-A9E5-4374-B299-FCA156C0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DEF-2FF8-4FBA-A9F3-247F9E7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8241-3C28-478C-8DC8-6D8130F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009A-0111-4556-BB03-8EE389D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49C-480E-4FCE-AFB3-FDB50FE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801D-62FE-4416-8B8C-F6C60CAB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47C-C07E-4A88-A5E5-B6FE3D4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14E-7F16-4C01-BDDB-10025112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315-42FF-4090-B066-B1BE861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758-9E02-4067-A343-1E209159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65B-2D9B-4457-BF48-4925392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FED-F1B1-4B36-89B3-D65BB674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806-130D-4877-B8B5-B36B82B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357B-B27A-49D9-BDD4-39069B457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20C-B58D-4DAE-9209-622DC1F93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ЛОЩАДЬ.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ФОРМУЛА ПЛОЩАДИ ПРЯМОУГОЛЬНИКА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5013360"/>
            <a:ext cx="38577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кончите формулировки определений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вадратным сантиметром называют площадь квадрата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вадратным дециметром называют площадь квадрата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вадратным метром называют площадь квадрат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157720"/>
            <a:ext cx="1297080" cy="1152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734080"/>
            <a:ext cx="576360" cy="574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653000"/>
            <a:ext cx="1727280" cy="165564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чертите квадрат, площадь которого равна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см ; 1 дм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44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5560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7093080" y="549000"/>
            <a:ext cx="0" cy="93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549360"/>
            <a:ext cx="115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44000" y="549360"/>
            <a:ext cx="0" cy="93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092720" y="1484280"/>
            <a:ext cx="115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79640" y="5445000"/>
            <a:ext cx="662472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Как зовут мою собаку?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Запишите ее имя в пустых клетках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640" y="2060640"/>
            <a:ext cx="324000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–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: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421000"/>
            <a:ext cx="4778280" cy="290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12000" y="5013360"/>
            <a:ext cx="2160360" cy="127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344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9973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8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44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9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344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198900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306864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149720"/>
            <a:ext cx="503280" cy="554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1577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6093000"/>
            <a:ext cx="503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зовите название многоугольника, начиная с вершины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). А;     2). Е;    3). С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2656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2492280"/>
            <a:ext cx="4392720" cy="2881440"/>
          </a:xfrm>
          <a:prstGeom prst="hexagon">
            <a:avLst>
              <a:gd name="adj" fmla="val 38112"/>
              <a:gd name="vf" fmla="val 1154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573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220500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220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35840" y="3645000"/>
            <a:ext cx="4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38000" y="346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3006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5300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22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Решите задачу, составляя уравнение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99640" y="1557360"/>
            <a:ext cx="424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 куска фан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ил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ямоугольник,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торого длина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 см больше шир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и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ямоуг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см. Какую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еет эт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ямоугольни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70320" y="1989000"/>
            <a:ext cx="3399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з квадрата с длиной стороны 4 см вырезали треугольник.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ычислите площадь оставшейся част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128000" cy="3364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18194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Площад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ол комна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ина которой 5 м,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ирина 4м, полож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вер, имеющ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у квадр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ковра 16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ая часть п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нется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крытой ковро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8000" y="2938320"/>
            <a:ext cx="4356000" cy="1719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10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49360"/>
            <a:ext cx="180000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549360"/>
            <a:ext cx="865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34720" y="12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836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765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364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4160" y="126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8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0000" y="260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1557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3080" y="1557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=aa=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6720" y="1557360"/>
            <a:ext cx="34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13:37Z</dcterms:created>
  <dc:creator>terexova</dc:creator>
  <dc:description/>
  <dc:language>en-US</dc:language>
  <cp:lastModifiedBy>terexova</cp:lastModifiedBy>
  <dcterms:modified xsi:type="dcterms:W3CDTF">2007-12-16T14:26:40Z</dcterms:modified>
  <cp:revision>29</cp:revision>
  <dc:subject/>
  <dc:title>Слайд 1</dc:title>
</cp:coreProperties>
</file>