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3441-A4A2-40B8-87B4-922C1281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E1D9-8EFB-4D90-B952-88AF5D11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BE53-BDA6-4574-A67A-3CCFB2A9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FE1D-6580-417A-971E-CE450C3E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24EB-E49B-4955-A262-4802508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97CF-8CA8-4502-BA9C-652C6A7A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03B6-F638-4F17-B532-D1BF68EC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8FD-BC7E-4B4E-AF7E-FE632739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AA6-9825-46FC-A8D5-B36DCDCF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D78F-3896-4AD3-934F-D2BE7848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766A-05E1-4006-A71E-83BE064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9672-F6A6-45A2-8C78-8E2B2A6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89BD-903D-4860-BEFE-15A7023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34D5-9273-41D1-8EFC-E20B6FE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AD29-048D-4012-9E63-3D81774C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A45-1158-4CA3-B8BD-0113FE8C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A46-2E1C-4290-9724-34245DF7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15BF-29BB-403D-91DF-04219A6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05C4-82FD-4CCB-AF13-78075E1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6AC1-9A3E-4BCE-9291-703185B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DB05-37E8-411F-9917-EFF453F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9D9D-6419-44BF-94FE-8008FBE9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2CCF-73B0-4F2B-8497-ED31C16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D7E4-7BF2-4DCC-8268-1BDE0BB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AC8C-85FB-4DA1-BE71-A0F49C0BC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3949-F73F-4DFD-8A17-5A14009AE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резок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Длина отрезка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Тре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92360" y="4797000"/>
            <a:ext cx="172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4797360"/>
            <a:ext cx="73080" cy="7164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5373720"/>
            <a:ext cx="71640" cy="7128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888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02720" y="460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2016000" cy="1008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22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8520" y="54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нарушая закономерности, изобразите две следующие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1033200" cy="103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700360" y="2637000"/>
            <a:ext cx="1008000" cy="985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924360" y="2637000"/>
            <a:ext cx="1008000" cy="98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1008000" cy="987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700360" y="2637000"/>
            <a:ext cx="1008000" cy="98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700360" y="2637000"/>
            <a:ext cx="100800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ая площадка имеет форму прямоугольника, размеры которого составляют 2 м 50 см и 3 м. Вычислите ее площад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95520" y="1844640"/>
            <a:ext cx="411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Заполните пустые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81080"/>
          <a:ext cx="8229600" cy="3822840"/>
        </p:xfrm>
        <a:graphic>
          <a:graphicData uri="http://schemas.openxmlformats.org/drawingml/2006/table">
            <a:tbl>
              <a:tblPr/>
              <a:tblGrid>
                <a:gridCol w="2746440"/>
                <a:gridCol w="863640"/>
                <a:gridCol w="792000"/>
                <a:gridCol w="792360"/>
                <a:gridCol w="936360"/>
                <a:gridCol w="720720"/>
                <a:gridCol w="719280"/>
                <a:gridCol w="65880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203640" y="450864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198900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9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3284640"/>
            <a:ext cx="4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4508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198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328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284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4508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5672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28000" y="4508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20000" y="5186520"/>
            <a:ext cx="16714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произвольно две точ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ьте их букв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е линейку к точкам и проведите отре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между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едних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кра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аче слишком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обог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3213000"/>
            <a:ext cx="71280" cy="7164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149720"/>
            <a:ext cx="71640" cy="7128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56720" y="278136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78936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80000" y="3284280"/>
            <a:ext cx="237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каком расстоянии от муравейника находится муравей? Изобразите отрезком тропинку к муравейнику. Обозначьте концы отрезка буквами и запишите обозначение двумя спос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496000" cy="345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2410920" y="4005360"/>
            <a:ext cx="5473800" cy="2303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95080" y="39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3736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ройте отрезок и на нем отметьте две точки, не совпадающие с его концам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сколько частей эти точки разделили отрез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сколько получилось отрез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ьте две точки на окружност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а сколько частей разделили эти точки окруж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76720" cy="354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8360" y="198864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5640" y="2276640"/>
            <a:ext cx="3456000" cy="33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2924280"/>
            <a:ext cx="73080" cy="7128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4221000"/>
            <a:ext cx="71280" cy="7164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082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053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йте  пояснения к решению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лыжной базы вышли одновременно Иван и Петр и пошли по лыжне один за другим. Скорость, с которой шел Иван, — 12 км/ч, а Петр — 18 км/ч. На сколько километров Иван отстанет от Петра за  полча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59280" y="4000680"/>
            <a:ext cx="382752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: 2 = 6 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: 2 = 9 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— 6 = 3 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4176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с предмета, попавшего на Луну, в 6 раз меньше его веса на Земле. Какой вес имели бы на Луне человек и медвед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784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 30 лет. Она говорит, что старше своего сына в 360 раз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но ли это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6:13:02Z</dcterms:created>
  <dc:creator>terexova</dc:creator>
  <dc:description/>
  <dc:language>en-US</dc:language>
  <cp:lastModifiedBy>terexova</cp:lastModifiedBy>
  <dcterms:modified xsi:type="dcterms:W3CDTF">2007-12-08T21:11:28Z</dcterms:modified>
  <cp:revision>36</cp:revision>
  <dc:subject/>
  <dc:title>Слайд 1</dc:title>
</cp:coreProperties>
</file>