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AAC-5FBC-4EFC-907C-8C1438E3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A21-9C9F-475F-BCE0-9CE986D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BAA-4270-4ADD-AB83-417CE23F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7B9-0FCC-4811-8B76-7B4545E2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AC01-BB11-44FF-BD82-2C1BBD13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C15D-8302-445A-841F-74CBEDF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AF39-4784-42CC-80CF-2D0ECF7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56D-9C47-47C9-B2E5-0131DEC1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24F3-60EA-439A-B48D-400C6EAA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3F6-399C-498F-AD3A-7BDFA48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3824-97E2-4867-A4B3-0DAD323D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5C4-BFE1-4C53-925C-33403874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019F-B923-409C-AA83-D6A6D11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AD2-256E-4910-8096-5FF6752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BD0E-4C6B-4ED1-9479-C2C184DC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64A-CF5E-4BAD-9EE3-89563BB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ACB-CE16-4600-973E-41E33802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84D-0EB8-4904-96DA-4AC4826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FE1-EC30-4A5A-87CD-D381F4F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8D6-31FD-46A9-AF26-941C154E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B8E-0BCB-4B4C-8BE3-FEB75EB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250-2FDE-4215-8D56-0C8598D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BB2-AD36-4F27-8F82-7ED82B4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1AB-16D0-4757-A0EE-5913C5A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DB73-DF32-4F88-AB76-05964058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ECF-F3A1-44D9-9CE2-B29694124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6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Умножение натуральных чисел и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1566720" cy="180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Вычислите уст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3880" y="1412640"/>
            <a:ext cx="7010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28 + 32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90-34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62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: 12              : 14               :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17              • 13             •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+ 25             +18              -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_____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____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95 – 37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100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: 29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+ 90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-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: 23                       •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_____                  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Умножить число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на натуральное число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— значит найти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умму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лагаемых, каждое из которых равно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т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4341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концертный зал освещается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страми по 25 лампочек в кажд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 всего лампочек в этих люс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дет 25 + 25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25, то есть 7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у, в которой вс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ага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вны друг другу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оч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о 25 + 25 + 25 пишут 25 •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, 25 • 3 = 75. Число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произведением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чисе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 и 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числа 25 и 3 называют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множ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ражение 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произвед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множ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едения 7 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 и 4 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му и тому ж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у 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05160" y="1905120"/>
            <a:ext cx="34290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060640"/>
            <a:ext cx="649080" cy="2881080"/>
          </a:xfrm>
          <a:prstGeom prst="flowChartOffpageConnec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2060640"/>
            <a:ext cx="682560" cy="2881080"/>
          </a:xfrm>
          <a:prstGeom prst="flowChartOffpageConnec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060640"/>
            <a:ext cx="609480" cy="2881080"/>
          </a:xfrm>
          <a:prstGeom prst="flowChartOffpageConnec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76640"/>
            <a:ext cx="328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множ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276640"/>
            <a:ext cx="307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множ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0720" y="2060640"/>
            <a:ext cx="216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произ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5229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01336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544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416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852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3737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50360" y="5148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68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22760" y="59389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94360" y="5724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5080" y="595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49440" y="5950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1280" y="5969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50360" y="5724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86520" y="595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Произведения читают, 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называя каждый множитель в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родительном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аде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75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60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ста семидесяти пяти и шестидесяти;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р.п.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                     р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х + 17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восьмидесяти и суммы икс и семнадцати,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п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р.п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р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Укажите множители в произведени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т;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х -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1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33cc33"/>
                </a:solidFill>
                <a:latin typeface="Arial"/>
              </a:rPr>
              <a:t>(х + р)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(т + п)</a:t>
            </a:r>
            <a:r>
              <a:rPr b="0" i="1" lang="ru-RU" sz="3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i="1" lang="ru-RU" sz="30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33cc33"/>
                </a:solidFill>
                <a:latin typeface="Arial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4аЬ;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т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читайте выражени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с 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г) 2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т 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) (4 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8;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) аЬ + 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)3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+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е)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 -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Умножение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398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а од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лейбольного мяч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</a:rPr>
              <a:t>х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баскетболь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яча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</a:rPr>
              <a:t>у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означа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ж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х;   4у;    5х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2у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2у;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(х + у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1590480" cy="20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77080" y="4643280"/>
            <a:ext cx="1798560" cy="1440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Ответ пояс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5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ловив рыбы, рыб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ил искупаться. 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авил удочки 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регу, разделся, вош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оду и 5 раз переплы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ку. Нашел ли он 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регу свои удоч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3527280" cy="26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358560" cy="15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flipH="1">
            <a:off x="6372360" y="4292640"/>
            <a:ext cx="365040" cy="156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47640" y="549360"/>
            <a:ext cx="1008360" cy="99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33336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Ответ поясни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36939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рибник подошел 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елезнодорожн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тну со стор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нции и вошел в л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бирая грибы в лес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еще 3 раза переходи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елезную доро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дется ли ему еще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есекать эту дорог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тобы попасть 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нци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4105440" cy="2773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6360" y="3068640"/>
            <a:ext cx="28872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47640" y="24624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317080" y="299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54:18Z</dcterms:created>
  <dc:creator>terexova</dc:creator>
  <dc:description/>
  <dc:language>en-US</dc:language>
  <cp:lastModifiedBy>terexova</cp:lastModifiedBy>
  <dcterms:modified xsi:type="dcterms:W3CDTF">2007-12-17T16:39:34Z</dcterms:modified>
  <cp:revision>35</cp:revision>
  <dc:subject/>
  <dc:title>Умножение натуральных чисел и  его свойства</dc:title>
</cp:coreProperties>
</file>