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B88-A28C-4417-8903-67099010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2E7-41A7-4C85-AB2D-3762E3D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CCB-B267-4189-9A0A-F9B85971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D68-F544-45F6-A7F1-663429FC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26B-0E14-447D-B30E-0A8D0C5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1ED-6D49-484B-AB13-5EC331B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0FD-BEE6-44C6-8FBC-C85FF8C0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C4C-B21B-43CC-8714-A107047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4B8-8656-4477-8163-08810552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FFDA-E996-45A7-BA64-A79D8DE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FF3-4409-40D9-B7C6-7D22BB4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F17-1E11-4119-946E-4F13DD6F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C02D-3E4E-4993-BA4A-60916AF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B023-3DA1-47AA-B979-4851DF43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64A7-F62F-4B93-8137-5F69352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56B-06B8-4594-89EF-683899D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08F7-357D-495B-864C-9B07E995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F41-658F-4BCB-A15A-1862FF4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0F3-4C55-4873-8739-5176D3F4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22B-B868-44CA-AED3-FD3EEBE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82C-D3D7-44ED-8F69-97F20862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49A-C85E-4F7A-BFC9-0A660DB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D24-B76C-47CC-9B14-A053263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0EF-CC85-427E-86E7-AEB76CD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A0F-5C23-4E47-B1CD-653CC4557D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2CE7-A753-487B-BCBE-E53F4412B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ЕДИНИЦЫ ИЗМЕРЕНИЯ ПЛОЩАДЕЙ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3673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Выразите данные единицы площади 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в более мелких единицах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м =_____  м •_____м =_________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м = ____ дм•_____ дм =_____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дм =_____ см • ____ см =______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м =_____мм •_____ мм=________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10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05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4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7640" y="306864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155736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133720"/>
            <a:ext cx="7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2637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314172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35640" y="4305240"/>
            <a:ext cx="1803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Просклоняйте словосочетание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«сто квадратных сантиметров»</a:t>
            </a: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1844640"/>
            <a:ext cx="3798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816360" cy="2239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8360" y="42721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280" y="450684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8360" y="4437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4940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000" y="51577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360" y="5373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513080"/>
            <a:ext cx="42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Названия единиц измерения всегда произносят пол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0 д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вяносто квадратных деци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 г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ятнадцать гекта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не га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м  = 100 д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квадратный метр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а квадратным дециметр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га = 40 000 м — четыре гектара равны 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ысячам квадратных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0720" y="25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18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14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9800" y="501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Найдите площади фигур на рисунке, если площадь каждой клетки равна 25 мм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301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9440" y="981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21:39:21Z</dcterms:created>
  <dc:creator>terexova</dc:creator>
  <dc:description/>
  <dc:language>en-US</dc:language>
  <cp:lastModifiedBy>terexova</cp:lastModifiedBy>
  <dcterms:modified xsi:type="dcterms:W3CDTF">2007-12-16T15:36:40Z</dcterms:modified>
  <cp:revision>14</cp:revision>
  <dc:subject/>
  <dc:title>Слайд 1</dc:title>
</cp:coreProperties>
</file>