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CEDC-CF84-4950-8396-72A758BA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389-0A09-4F3D-AF81-BB1848B2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A2FD-2DDC-46CF-8433-07DE75E6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7EF-30A5-46CB-B500-DF2D59BA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2D79-5CC8-4719-AA1C-50D12AF2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04A9-33E9-4986-BC4C-79F66A88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A1AD-A675-4976-8E24-F46AD3EC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5056-0854-4F06-9C31-24221B1B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C9B3-61EC-4A89-BE04-71502F98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7EFB-CD1E-4BC4-9C8A-FA0A7638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EEC3-B193-403B-9B68-45F5BB2A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A3E-336C-4F0A-94D8-7AEECBCC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DA79-5602-4409-9D5C-5445C62D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81DC-6CDB-4985-8D5A-C08EB8A1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48DE-848A-4C52-8987-FF4DFE0A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D771-3141-4F4E-81FB-440CC7EF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EDA4-BA52-493E-A9B5-780F3D85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7E2-8561-4E0B-8BC8-BCB487AD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83B-FE3F-468A-9373-1DF79EE1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67AA-4A39-4ACF-81FF-419CBA63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44A6-7917-4F8A-AADB-175FB7AB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D7B-ED50-4D43-822B-923A19C6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9334-AC75-4D8D-8339-4233F343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46F9-518F-4879-B06C-ABB3B586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626C-D989-4CE3-9ECC-AF1803029BA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BC48-7DE5-419F-B0A6-2C9B3B65388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Делени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867280" y="3068640"/>
            <a:ext cx="19623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Задача.</a:t>
            </a:r>
            <a:br>
              <a:rPr sz="2400"/>
            </a:b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48 карандашей разложили поровну в 4 коробки. Сколько карандашей лежит в каждой коробк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52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Пусть в каждой коробке лежит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х 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карандаш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Тогда по условию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х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•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4 = 4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Только одно число п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умножении на 4 дает 4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Это число 12. Значит, в каж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коробке лежит 12 карандаш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Мы по заданному произвед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48 и одному из множителей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нашли неизвестный множитель — он равен 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51640" y="2420640"/>
            <a:ext cx="3241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Действие,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с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которого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произвед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и одному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множителей наход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другой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множител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называют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дел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Пишут: 48 : 4 = 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940360" y="2386080"/>
            <a:ext cx="216072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Деле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43280" y="2205000"/>
            <a:ext cx="3770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Число, которое дел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называют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делимым</a:t>
            </a: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число, на котор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делят,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назы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делителем</a:t>
            </a: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деления назы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частным</a:t>
            </a: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Частное </a:t>
            </a: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показыв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во сколько раз дел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больше,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чем дел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9440" y="2492280"/>
            <a:ext cx="2943360" cy="3529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04000" y="836640"/>
            <a:ext cx="93672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ставьте уравнение по рисунку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масса гирь дана в килограммах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найдите массу каждого пакета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76360" y="2781360"/>
            <a:ext cx="6120000" cy="2741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71640" y="5810400"/>
            <a:ext cx="712944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Деле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имое в 14 раз больше частного. Можно ли найти дели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в правильный отв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раве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а - 37) : (Ь +43) = 5 выражение (Ь + 43) является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а)част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делителем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 делим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6121440" cy="2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0:44:43Z</dcterms:created>
  <dc:creator>terexova</dc:creator>
  <dc:description/>
  <dc:language>en-US</dc:language>
  <cp:lastModifiedBy>terexova</cp:lastModifiedBy>
  <dcterms:modified xsi:type="dcterms:W3CDTF">2007-11-15T21:21:25Z</dcterms:modified>
  <cp:revision>15</cp:revision>
  <dc:subject/>
  <dc:title>Деление</dc:title>
</cp:coreProperties>
</file>