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1D0-83A1-44D7-9C22-E93CB9F1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FDE-8D3B-4C63-93D5-2FA7A995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775-375B-4DB9-A328-598D887F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E4A-3703-478C-A652-FB87F13B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FAF3-BCED-4608-8420-9E6E8BEA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3033-D4D4-4079-BDFA-F91BBD19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E318-2B09-48F4-B050-45A434EA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FF69-1A1F-4969-8AEE-6485971B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6241-365A-4CA8-92CC-4515BB62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72E3-4658-4CC6-AE61-CE29D07E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4F1D-9063-41F3-9C32-ADB1D1FE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532-47BA-4597-ACBB-A411DF9E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8EC2-4E96-4613-A497-B7410887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8127-A3E6-4FB2-82FF-7A55704B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AAB8-4D1D-455D-8098-016F800F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9F9F-3B1A-4FE9-B4D8-BD9781A9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6E6E-F449-44C8-B8CE-10A9FF42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DEF-9A81-4AB7-87E8-49879DA4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F26-F706-4850-9CC8-EC8BA42C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8DE-5950-4DB6-A897-F3DB43CB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DB9-6E6B-4FF1-B3C0-848EBE2E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C57-D6C0-43A9-82C2-75DB34F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91F-6279-4B56-B844-5A981CE9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A72-D2A9-460F-867B-35534816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0B59-3E75-4640-931F-00E5BD15F5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C7FA-FF40-47EF-BE45-A261A09CF3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Деление с остатком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1792080" cy="179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сстанови цепочку вычислени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213372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17002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4360" y="213372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465300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515772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24360" y="47242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00720" y="342900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328464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563640" y="2133720"/>
            <a:ext cx="64764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627280" y="292428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56000" y="4221000"/>
            <a:ext cx="2872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5516640"/>
            <a:ext cx="720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003640" y="544464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516720" y="4292280"/>
            <a:ext cx="28728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6516720" y="285228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076720" y="206064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800" y="17226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21440" y="17002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21280" y="26049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10520" y="422100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45280" y="55576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22160" y="558972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4000" y="440532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7440" y="282096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4941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88000" y="3645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080" y="22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лощадь прямоугольного участка земли 2400 м . Длина одной его стороны 60 м. Чему равна длина другой стороны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184720" cy="4859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484360" y="1484280"/>
            <a:ext cx="1219320" cy="1209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619280" y="4046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ff00"/>
                </a:solidFill>
                <a:latin typeface="Arial"/>
              </a:rPr>
              <a:t>Деление с остатком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1700280"/>
            <a:ext cx="4176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Заполните пропуски числа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0: 8 =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ост. 4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___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30 = 4 (ост. 5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5:7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 (ост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0 :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= 6 (ост. 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Грузоподъемность лифта 350 кг. Смогут ли на этом лифте подняться одновременно на пятый этаж 4 человека, масса каждого из которых не более 80 кг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306864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350028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7984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3280" y="407664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458136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Делимо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равно произведению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еполного частног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делител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сложенному с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остатко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74760" y="29862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3500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елим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301608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27280" y="29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34480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епол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2720" y="2852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2997360"/>
            <a:ext cx="2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35002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ел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94520" y="2997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3800" y="2995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3500280"/>
            <a:ext cx="15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ста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19640" y="4149720"/>
            <a:ext cx="2857680" cy="2124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0:35:17Z</dcterms:created>
  <dc:creator>terexova</dc:creator>
  <dc:description/>
  <dc:language>en-US</dc:language>
  <cp:lastModifiedBy>terexova</cp:lastModifiedBy>
  <dcterms:modified xsi:type="dcterms:W3CDTF">2007-12-09T16:23:42Z</dcterms:modified>
  <cp:revision>19</cp:revision>
  <dc:subject/>
  <dc:title>Деление с остатком</dc:title>
</cp:coreProperties>
</file>