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08D-50C5-4E51-8359-D7D35FD9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F43-08F3-4603-B788-2E2E842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26E-132C-4ED1-AC95-682BA1AA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8F0-787D-41D2-9200-48AA84BF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2B4-0E14-4928-97BE-0F773F68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7AE3-A3C4-4220-A41A-16433FB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DD2-986C-427D-8B3B-511A064C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AA1-9029-482B-BA8B-7F25683B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853-C2D9-4DA3-AF38-31222E64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E68-730B-417B-A1A6-A68AAA8D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E7C7-0E8E-4652-8D4D-FD2A0B1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471-1CC2-47F9-9835-DB60080F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6809-1B86-42CD-AFD9-F5EE157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764-ED97-4F94-BD6A-E76A297F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E177-92EB-446B-B7A3-CF0B8A7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F7C-0335-4A76-9D77-730FF9D1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2980-A23F-4523-80EE-337D18AD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7EE-C4F2-4F59-9BE9-3D3E6C52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5EF-EFCB-4F33-95BC-8EFAE3F7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ABC-46EC-4B7E-8298-B7817D4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CF7-BECC-4532-83DC-43E3906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25D-D747-4669-9686-5960763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D99-0B80-4CFA-96F6-BF9DF13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0F8-BA9D-4B10-8DEF-8FCD3FB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A3D-E2A3-4ABA-8DAC-C225F22283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0B8-9CDC-4836-BAD2-E3BF45420D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1091c"/>
                </a:solidFill>
                <a:latin typeface="Garamond"/>
              </a:rPr>
              <a:t>Сложение натуральных чисел </a:t>
            </a:r>
            <a:br>
              <a:rPr sz="3600"/>
            </a:br>
            <a:r>
              <a:rPr b="1" lang="en-US" sz="3600" spc="-1" strike="noStrike">
                <a:solidFill>
                  <a:srgbClr val="91091c"/>
                </a:solidFill>
                <a:latin typeface="Garamond"/>
              </a:rPr>
              <a:t>и его свойств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1962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кончите предложение: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)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Сложение натуральных чисел выполняется поразрядно -------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)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При сложении столбиком натуральные числа располагают таким образом, чтобы -------------  »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Запишите с помощью символов: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9068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авила сложения с нулем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умму чисел 2а и 2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64000" y="2133360"/>
            <a:ext cx="3322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+0=0+a=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a+2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Для приготовления борща на 500 г мяса беру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00 г свеклы, 200 г свежей капусты, 200 г кореньев и лука, 150 г картофеля и 100 г помидоров. Рассчитайте расход продуктов на приготовление борща из 3 кг мяса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278136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цеп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Бор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Мясо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 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екла 300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пуста 200 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ренья и лук 200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ртофель 150г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мидоры 100 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43182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На сколько отличаются по росту африканский и индийский слоны?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ст взрослой жираф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остигает 6 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фриканский слон 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м 80 см ниже жирафы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о в 2 раза выше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дийского слон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03800" y="2205000"/>
            <a:ext cx="3632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етя начертил многоугольник, длина каждой стороны которого равна 4 см. Периметр многоугольника   72 см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пиш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эт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ногоуг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16360" y="1735200"/>
            <a:ext cx="39592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Выполните записи по образцу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разец: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+ 9 = 9 + 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5 + 8) + 2 = 5 + (8 +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5 + 543=_______+_________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00 + 999 =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9 + 14) + 6 =____ + (____ + ____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7+ 12)+ 20 = 7+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6034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Применяя свойство сложения, вычислите: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00 + 75) + 25 =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83+ 48)+17=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8 + (50 + 422)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9 + (1 + 900)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9096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648320" y="1600200"/>
          <a:ext cx="4038480" cy="4530600"/>
        </p:xfrm>
        <a:graphic>
          <a:graphicData uri="http://schemas.openxmlformats.org/drawingml/2006/table">
            <a:tbl>
              <a:tblPr/>
              <a:tblGrid>
                <a:gridCol w="1331640"/>
                <a:gridCol w="1370160"/>
                <a:gridCol w="1336680"/>
              </a:tblGrid>
              <a:tr h="378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рибы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ис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ты 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задержк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 1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2:57:14Z</dcterms:created>
  <dc:creator>terexova</dc:creator>
  <dc:description/>
  <dc:language>en-US</dc:language>
  <cp:lastModifiedBy>terexova</cp:lastModifiedBy>
  <dcterms:modified xsi:type="dcterms:W3CDTF">2007-12-11T22:05:38Z</dcterms:modified>
  <cp:revision>19</cp:revision>
  <dc:subject/>
  <dc:title>Слайд 1</dc:title>
</cp:coreProperties>
</file>