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7748-8328-413E-AE13-05550D69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5BC-567F-4587-BE03-8BC86E12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BB4-0A6A-433A-9DC6-8AEFC8B2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B98-ED80-459D-9956-9427CA27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7B43-6FCF-4FD7-82EA-32D137FB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EE1E-F8A7-4DE4-AFF9-7958B869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DCB5-7A40-4311-B296-F2610ADB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4372-EAD2-4D56-B440-C0375CA1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2299-D0F5-4701-9911-1FD6FB2A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380A-68E7-4E0F-9CC5-ED107CDD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DB07-45FE-471F-8699-FFBA7FE3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549-D6AF-4DB1-8DA2-384D938F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FA1A-927D-4D10-BEA5-D8AD10FF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ED3F-2C63-46BF-9A08-70E3768E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97EB-E055-4CF0-B151-8CFE7366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7FE7-78EE-4DDA-99EE-590D8C73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999F-E7AD-4B80-AD7B-D54E68C3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833-3527-47AD-8682-BB2809EB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D10-7DE8-4133-B1DE-3E82CC1C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DBA-0CEB-47A6-8A8F-02A409FF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B16-EAD1-4B0F-BCA0-816430CD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DC8-0C72-43C9-B8E6-EF845CFE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437-3BBE-4C4C-9680-F5BC396F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9D7-06C3-4356-8C8E-1606598E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B6F1-882D-47ED-8570-09F404B3A4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E84A-B53E-4A3C-A74E-88A9BA312C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7b50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7b505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1142640"/>
            <a:ext cx="849636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Числовые и буквенные выражения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1630440" cy="1944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9640" y="-1044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анных выражений выберите и назовите отдельно числовые и буквенны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207280" cy="482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14400" y="277920"/>
            <a:ext cx="77724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думайте и назовите числовое выражение, значением которого является число 1000. Сколько таких выражений можно назв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518160" y="3860640"/>
            <a:ext cx="12686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55280" y="277560"/>
            <a:ext cx="793116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овите, какие значения может принимать буква в выражения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— х;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а • 5;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 —8 ;              100+ у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37440" y="3860640"/>
            <a:ext cx="14493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14400" y="277920"/>
            <a:ext cx="77724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овите три каких-нибудь значения выражения 250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97560" y="3860640"/>
            <a:ext cx="13892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4400" y="277920"/>
            <a:ext cx="77724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думайте текст задачи, которую можно решить, составив выражение 60 : 4 •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99360" y="3860640"/>
            <a:ext cx="13874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14400" y="277920"/>
            <a:ext cx="77724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значений имеет выражени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а? Из данных ответов выберите вер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од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сколько угод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ни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3273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14400" y="277920"/>
            <a:ext cx="77724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 каком значении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начение выражения 300 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равно: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1;    3) 3;     5) 6;     7) 1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2;    4) 5;     6)10;    8) 3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73800" y="4508640"/>
            <a:ext cx="108756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905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кажите названия трех треугольников, для которых отрезок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вляется общей стороной.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2692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720" y="2475000"/>
            <a:ext cx="400788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95080" rIns="251208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1620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-1162080" y="3276720"/>
          <a:ext cx="182520" cy="1017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-1160280" y="4293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23:14:15Z</dcterms:created>
  <dc:creator>terexova</dc:creator>
  <dc:description/>
  <dc:language>en-US</dc:language>
  <cp:lastModifiedBy>terexova</cp:lastModifiedBy>
  <dcterms:modified xsi:type="dcterms:W3CDTF">2007-12-17T18:04:08Z</dcterms:modified>
  <cp:revision>18</cp:revision>
  <dc:subject/>
  <dc:title>Слайд 1</dc:title>
</cp:coreProperties>
</file>