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628-9351-4495-AF5D-2B9DB68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8EE-C697-41D5-B7C6-CBF58AF5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8CA-98B9-4979-8AD7-CAFD5409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9B1-09DF-4759-8772-CE0F30C2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65CC-1B7D-41B7-A2B3-C113AEBF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3F69-E1FE-41C5-87B9-3AE57504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9A18-EE90-4865-8B53-2C10FB36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D5E8-BD3B-4563-B628-5A31F5C1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D0C-21C3-45F0-A826-6E9D531E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D5EE-C288-4B94-ABB9-5149A712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1504-AB54-40D8-988A-709DEE56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F1F-67CA-4EB0-A88C-7F2A13DC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0792-7D36-44FF-8009-1758CCF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71CB-C4FB-4065-9CB3-A74BCF15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33A2-E8D2-4D0A-8222-89058F57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F53B-A069-4365-AA9C-3DB1A954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3C05-10FE-4214-AB99-35A9B5E4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FCF-EEBD-4E1C-976E-E5B157AA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465-F482-42D1-B619-1CEA213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450-D8BE-449A-B5F3-964E570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9E2-2399-4528-977B-B15FEB4E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A58-150F-4E26-8CEB-64A89B14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035-42D8-4699-83DD-9A01165C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AAE-3491-4DDC-8299-A738BA8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3D5B-170F-41EF-B5E0-8FFB38B4D0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AE78-F056-45C2-BCD6-A3A6EC496E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РЯДОК ВЫПОЛНЕНИЯ ДЕЙСТВ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3006720"/>
            <a:ext cx="23749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620640"/>
            <a:ext cx="7313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олните пустые клет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1676520"/>
            <a:ext cx="294624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1320" rIns="1744200" tIns="914040" bIns="457200" anchor="ctr">
            <a:spAutoFit/>
          </a:bodyPr>
          <a:p>
            <a:pPr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72723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3137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вьте в пустые клетки результаты выполнения команд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1576440"/>
            <a:ext cx="64818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31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кажите порядок выполнения действий в выражениях и найдите их значения: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00:12 + 18-2=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00 : (12 + 18) • 2=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600 : 12 + 18) • 2=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580 — 320 + 650=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580 — (320 + 650)=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580 + 650 — 320=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Собака увидела хозяина, когда была от него на расстоянии 450 м, и побежала к нему со скоростью 15 м/с.Какое расстояние между хозяином и собакой будет через _____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32000" y="2349360"/>
          <a:ext cx="7313400" cy="433692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ежала соба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тояние до хозяи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202752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11:33Z</dcterms:created>
  <dc:creator>terexova</dc:creator>
  <dc:description/>
  <dc:language>en-US</dc:language>
  <cp:lastModifiedBy>terexova</cp:lastModifiedBy>
  <dcterms:modified xsi:type="dcterms:W3CDTF">2007-11-18T13:50:37Z</dcterms:modified>
  <cp:revision>12</cp:revision>
  <dc:subject/>
  <dc:title>Слайд 1</dc:title>
</cp:coreProperties>
</file>