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851-65D2-4D1D-9D06-2167347F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339-00D4-49C7-A289-AA808BB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B55-D1E1-4FC5-B908-BCD0E390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6A6-0726-4060-A50C-77BFB60B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CBBB-9A07-43EF-8318-91FC66B7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A1F3-DFEF-4419-ADC9-316D1674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15B7-C34B-40B1-871E-7F2FC90F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F27C-F4FC-43BE-B3CF-8B19A106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93AD-C4B1-42C3-B26A-FC34799E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B74E-F2EC-43A4-B4CA-FDFD2E8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83E0-A765-4BBC-B0F3-1907EA8D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26D-DFAF-4E9F-BEA2-51620A67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12F-3896-4C41-906A-EFFD801D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2C2E-917E-47FE-BCA2-A0E20DF5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2D64-A56C-4944-975C-BC01B7BE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D88D-90B7-4186-B206-DEBB6EE9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1D71-E3BF-4019-A23F-3139DF33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730-E168-44B0-9C6E-9F5620C9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7A1-5E54-4988-B17B-7BFB9A84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0DA-00B5-4157-8F57-CF0A5654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EDC-81F7-4207-A2BA-6DA57C49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8B7-0548-41BD-AE81-9456890F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60A-AC07-467D-A02C-C79D3BD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701-AD7B-4D62-8F5C-43DCEF7D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C276-543B-4AB7-8BDA-86E5133C58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43C9-9177-471C-93D3-7C9CE86243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ШКАЛЫ И КООРДИНАТЫ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299736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2735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761760" y="762120"/>
            <a:ext cx="792468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пишите координаты точек, расположенных между точками А и 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1089                                                       11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645000"/>
            <a:ext cx="741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8420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3645000"/>
            <a:ext cx="71280" cy="71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720" y="3645000"/>
            <a:ext cx="71640" cy="71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полните таблиц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1960"/>
          <a:ext cx="7693200" cy="3724200"/>
        </p:xfrm>
        <a:graphic>
          <a:graphicData uri="http://schemas.openxmlformats.org/drawingml/2006/table"/>
        </a:graphic>
      </p:graphicFrame>
      <p:graphicFrame>
        <p:nvGraphicFramePr>
          <p:cNvPr id="100" name=""/>
          <p:cNvGraphicFramePr/>
          <p:nvPr/>
        </p:nvGraphicFramePr>
        <p:xfrm>
          <a:off x="539640" y="2565360"/>
          <a:ext cx="8280360" cy="3959280"/>
        </p:xfrm>
        <a:graphic>
          <a:graphicData uri="http://schemas.openxmlformats.org/drawingml/2006/table">
            <a:tbl>
              <a:tblPr/>
              <a:tblGrid>
                <a:gridCol w="2784600"/>
                <a:gridCol w="658800"/>
                <a:gridCol w="611280"/>
                <a:gridCol w="806400"/>
                <a:gridCol w="733320"/>
                <a:gridCol w="658800"/>
                <a:gridCol w="658800"/>
                <a:gridCol w="662040"/>
                <a:gridCol w="706320"/>
              </a:tblGrid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итель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итель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е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9528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17800" y="476280"/>
            <a:ext cx="1147680" cy="136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00560" y="52484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6370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40200" y="395280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263700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7080" y="522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263700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3933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28000" y="3860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28000" y="5229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8302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ка Виктор Перестукин учил стихотворение,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т Кузя отломал левый край его линейки. Сможет ли он теперь выполнить задание по математике? Помогите Перестукину: вычислите длину каждого предмета и назовите  результаты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8064360" cy="4290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96360" y="1549440"/>
            <a:ext cx="14032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48000" y="297360"/>
            <a:ext cx="79297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т озера к дачам идут два рыболова — Алексей и Сергей. Алексей отошел от озера на 700 м, а Сергей отстал от него на 250 м. Покажите, где в данный момент находится каждый из них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41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40080" y="360360"/>
            <a:ext cx="7796880" cy="13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кажите на термометрах где будут находиться столбики ртути, чтобы левый термометр показывал 15 градусов тепла, средний — 5 градусов мороза, а правый — 2 градуса тепла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64200" y="2565360"/>
            <a:ext cx="1278000" cy="395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126036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55960" y="2565360"/>
            <a:ext cx="1263600" cy="403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-71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00" y="1095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71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2011320"/>
          <a:ext cx="182520" cy="1812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800" y="3823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71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4740120"/>
          <a:ext cx="182520" cy="1812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160" y="6636240"/>
            <a:ext cx="28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.IX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43680" y="364320"/>
            <a:ext cx="7938360" cy="14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 какой скоростью едет водитель? Нарушает ли он правила дорожного движения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8066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34320" y="499680"/>
            <a:ext cx="7957080" cy="1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 каких единицах измеряют рост человека? Заполните таблицу: назовите рост каждого ученик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26920" y="2421000"/>
          <a:ext cx="7693200" cy="437508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514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м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ос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 сантиметра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 метрах и сантиметра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юд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н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ан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т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ереж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ервые четыре места в лыжных соревнованиях заняли Андрей, Борис, Петр и Антон. Известно, что Григорий занял не четвертое место, Борис — не четвертое и не первое, Андрей - второе. Какое место занял каждый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4211640" cy="38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838080" y="2565360"/>
          <a:ext cx="4078440" cy="4103280"/>
        </p:xfrm>
        <a:graphic>
          <a:graphicData uri="http://schemas.openxmlformats.org/drawingml/2006/table">
            <a:tbl>
              <a:tblPr/>
              <a:tblGrid>
                <a:gridCol w="1430280"/>
                <a:gridCol w="648000"/>
                <a:gridCol w="647640"/>
                <a:gridCol w="631800"/>
                <a:gridCol w="720720"/>
              </a:tblGrid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-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-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-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-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ри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_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_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т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нтон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_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уховый платок имеет форму квадрата с длиной стороны 90 см. Вычислите площадь платк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1:51:33Z</dcterms:created>
  <dc:creator>terexova</dc:creator>
  <dc:description/>
  <dc:language>en-US</dc:language>
  <cp:lastModifiedBy>terexova</cp:lastModifiedBy>
  <dcterms:modified xsi:type="dcterms:W3CDTF">2007-12-08T21:51:46Z</dcterms:modified>
  <cp:revision>32</cp:revision>
  <dc:subject/>
  <dc:title>Слайд 1</dc:title>
</cp:coreProperties>
</file>