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FDA-B03A-4788-AE47-6D74E31E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91B-004D-4DC7-9ADA-9906E8B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E0D-2BB3-47DB-8C7B-7FC0E6C5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BC5-3823-44D7-B875-1A297D2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861-AFDD-4E77-9D5F-20CE79A2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390-434E-4A79-B3B5-7AC19B8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85B-AE8C-4507-97D0-989FB29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1DF-3C4E-4833-AB0D-57FE554D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08EF-3289-479F-BE41-040952C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804F-FD7F-475E-8CF7-1EB4716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A489-2781-4426-9BBC-87F2625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4E4-80D3-453B-A2E7-C17F8D7D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2FEF-3F3F-463A-A1B1-663E0A4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530-29E7-4B1F-BD4F-8A02285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64C-30CE-40D6-8FBB-FFABC593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21B1-0744-4A2E-A417-49BEDC41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375-6B45-460C-947D-68B3361A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86A-48E2-40BB-88C1-20C6239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D23-AD32-445B-B168-D536FB7E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230-8333-4D18-B8E3-849EDC4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E99-9B57-4372-83DB-3B0BBC1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5A2-F05E-443E-BD1A-CB14351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CCE-4BC5-4977-A7DD-A924360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E12-2A92-4B30-8C4F-0C479AA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9205-B34D-47B1-BD00-6951E3EC3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289-742E-4B83-A66D-A5306A504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Плоскость. Прямая. Луч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5600" y="3429000"/>
            <a:ext cx="1387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зовите нужные числа в пустых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628640"/>
          <a:ext cx="7777080" cy="4248360"/>
        </p:xfrm>
        <a:graphic>
          <a:graphicData uri="http://schemas.openxmlformats.org/drawingml/2006/table">
            <a:tbl>
              <a:tblPr/>
              <a:tblGrid>
                <a:gridCol w="2617200"/>
                <a:gridCol w="705600"/>
                <a:gridCol w="635400"/>
                <a:gridCol w="707400"/>
                <a:gridCol w="635760"/>
                <a:gridCol w="635760"/>
                <a:gridCol w="707040"/>
                <a:gridCol w="635760"/>
                <a:gridCol w="497160"/>
              </a:tblGrid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4914720" cy="77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443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1628640"/>
            <a:ext cx="8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6864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443700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1628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306864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3068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4437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1628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44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4760" y="228240"/>
            <a:ext cx="8339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 помощью линейки начертите две прямые в разных направлениях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значьте каждую прямую буквами и запишите два ее обо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з точку О проведите пять различны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ьте синим карандашом три точки, лежащие на прямой, и зеленым карандашом три точки, не лежащие на эт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кажите рыцарю лучами три возможных направления его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408720" cy="3695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1907640" y="2492280"/>
            <a:ext cx="1584360" cy="216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716360" y="2492280"/>
            <a:ext cx="863640" cy="172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16360" y="4653000"/>
            <a:ext cx="2735280" cy="504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пределите закономерность расположения чисел в каждом ряду и назовите два следующих чи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, 14, 16, 19,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,16,8,4,...,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4,9,16,..., 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55, 555, 555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16286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1628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220500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220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78136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278136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335772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55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3357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555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1360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цифры надо пере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 + 34 = 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ало вер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верное 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равенств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129440" cy="317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1294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ите прямую и луч так, чтобы прямая не пересекала треугольник, а луч пересекал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456000" cy="2073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1341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 + 34 = 81 – неверное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 + 36 = 81 – верное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272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2:22:02Z</dcterms:created>
  <dc:creator>terexova</dc:creator>
  <dc:description/>
  <dc:language>en-US</dc:language>
  <cp:lastModifiedBy>terexova</cp:lastModifiedBy>
  <dcterms:modified xsi:type="dcterms:W3CDTF">2007-12-08T21:37:45Z</dcterms:modified>
  <cp:revision>23</cp:revision>
  <dc:subject/>
  <dc:title>Слайд 1</dc:title>
</cp:coreProperties>
</file>