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media/image4.jpeg" ContentType="image/jpeg"/>
  <Override PartName="/ppt/media/image5.gif" ContentType="image/gif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8B8A-02C3-4E62-8869-5CE71E291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3F48-E84B-41ED-81F0-81433D37D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434F-2A89-47F5-A360-439414902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8408-4B91-4028-9333-242187EFD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FEB0E-D9B7-4F45-B60E-7F1D197BC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E3AC1-863B-406D-B9A8-B5B816151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3873C-92C6-4060-8DFF-CA1414E14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C0F28-7793-49AC-848E-C91E50573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97570-3D15-473C-AEB6-726119B35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24705-3E6F-4C23-8F5B-5EC25A46A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414A9-FE54-4BB8-BF54-D8A7AA77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7A9C-4B09-4F02-95A2-962406040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0D678-B10C-4A3F-B54A-27DDFA950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0A91B-C03B-46EE-A6B8-F06EF672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2ED34-0E27-4636-9FC3-44D80CFE3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40AFD-3F49-4B6A-B0D5-15CB13617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E5048-B38A-45E5-BB44-122F7542F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DD3C-C530-4D2F-8865-9DC72A315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FFC0-EC82-4EA7-9A2B-AB89EA4A0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B1B8-1CC4-4872-9BE7-9558C67F3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E947-1A2D-4AC8-B425-791D9584E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6F5E-D975-4864-9255-7001E0F49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802F-4049-40D3-BA1B-533D4FE9A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3FB9-799D-4635-803F-ABAF8BC6D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035E2-CF73-4535-A991-3D0A65FE141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1473F-592C-492B-AFB0-B5CAB528D12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Вычит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543720" y="3500280"/>
            <a:ext cx="137952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кончите предложени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читание натуральных чисел нельзя выполнить, если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читание натуральных чисел можно выполнить, если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бы узнать, на сколько одно число больше или меньше другого числа, можно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таблице указана площадь поверхности каждого из океанов Земли (в квадратных километрах)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числите площадь поверхности Мирового океана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2000" y="2060640"/>
            <a:ext cx="3618000" cy="4465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3635280" y="2060640"/>
          <a:ext cx="5329440" cy="4568760"/>
        </p:xfrm>
        <a:graphic>
          <a:graphicData uri="http://schemas.openxmlformats.org/drawingml/2006/table">
            <a:tbl>
              <a:tblPr/>
              <a:tblGrid>
                <a:gridCol w="2881440"/>
                <a:gridCol w="2448000"/>
              </a:tblGrid>
              <a:tr h="90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еа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ощад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х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9 680 тыс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тлантическ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 360 тыс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дийск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 920 тыс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верный Ледовит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100 тыс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 кого из стрелков результат наилучши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41162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отовясь к соревнованиям по стрельбе, Иванов сделал 50 выстрелов по мишени, из них 40 попаданий. Смирнов стрелял 60 раз, при этом промахов было 20. У Петрова из 55 выстрелов было столько же попаданий, сколько у Ивано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067280" y="1773360"/>
            <a:ext cx="4897440" cy="1800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6" name=""/>
          <p:cNvGraphicFramePr/>
          <p:nvPr/>
        </p:nvGraphicFramePr>
        <p:xfrm>
          <a:off x="4500720" y="3716280"/>
          <a:ext cx="4464000" cy="2566800"/>
        </p:xfrm>
        <a:graphic>
          <a:graphicData uri="http://schemas.openxmlformats.org/drawingml/2006/table">
            <a:tbl>
              <a:tblPr/>
              <a:tblGrid>
                <a:gridCol w="1427400"/>
                <a:gridCol w="1547640"/>
                <a:gridCol w="1488960"/>
              </a:tblGrid>
              <a:tr h="76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мил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выстрел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попад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ван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ирн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тр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2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дно из крупнейших горных озер мира — Иссык-Куль - расположено на высоте 1608 м над уровнем Мирового океана. Уровень величайшего озера Земли — Каспийского моря — на 28 м 50 см ниже уровня Мирового океана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Вычислите разность уровней этих оз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rcRect l="26206" t="35925" r="26206" b="36417"/>
          <a:stretch/>
        </p:blipFill>
        <p:spPr>
          <a:xfrm>
            <a:off x="4572000" y="3483000"/>
            <a:ext cx="4033800" cy="3024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826920" y="5013360"/>
            <a:ext cx="2089440" cy="12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амый большой колокол в мире — Царь-колокол — имел массу 200 т. Во время тушения пожара в 1737 г. на него попала вода, и от колокола откололся кусок массой 11т 500 кг. Вычислите массу оставшейся части Царь-колоко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3419640" y="2781360"/>
            <a:ext cx="5108400" cy="35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идумайте числа, чтобы записать предложения в виде равен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зность большего и меньшего чисел равна 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зность чисел равна одному из этих чис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зность чисел равна нул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дно число на 15 больше другого чис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дно число на 20 меньше другого чис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8T23:46:45Z</dcterms:created>
  <dc:creator>terexova</dc:creator>
  <dc:description/>
  <dc:language>en-US</dc:language>
  <cp:lastModifiedBy>terexova</cp:lastModifiedBy>
  <dcterms:modified xsi:type="dcterms:W3CDTF">2007-11-13T08:46:24Z</dcterms:modified>
  <cp:revision>18</cp:revision>
  <dc:subject/>
  <dc:title>Слайд 1</dc:title>
</cp:coreProperties>
</file>