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4.png" ContentType="image/png"/>
  <Override PartName="/ppt/media/image7.gif" ContentType="image/gif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8BC-66D6-4671-A19F-8B60A46A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9B5-10C9-49D9-B885-0D1E57B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0C6-47F9-496C-B403-21683727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F01-7622-4B67-AEA6-4FCFC365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CB1B-4DAC-4FC4-ADB1-F2EB43FD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8F4-05B2-4FE7-8EF0-25F1179D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703C-A03F-412B-9A5D-1E04BA9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02D3-287F-4E8E-8C6E-F1881245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C117-20A8-4C3C-A637-7E66E91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2175-219F-459B-BBA5-740DDE4A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604-DB13-4CAD-8A72-81AFC06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497-A69F-4312-B730-B6FBB987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5FD-B268-462C-9EDB-3C04707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2E07-7CD3-49F8-AA20-923FA37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C01-F9C7-4425-85B8-8D9DB98E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654B-EBE0-4FC6-86BD-E789827F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A997-4632-4D5F-A8E1-9B18BFF2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9CB-550F-49E2-B21F-B975469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E9D-B71E-4188-816B-6DF841D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57F-313F-466A-908A-E9D9491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896-0E0A-4B61-AD80-7C65030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3DA-90FE-431F-A505-40672E8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DF8-A994-4D38-B63F-BB98CCF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35D-9054-44E9-B78A-C9BC18D7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B94D-3C2A-4332-8C09-C81477929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C5E-8420-45FB-B643-980F39F1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66"/>
                </a:solidFill>
                <a:latin typeface="Arial Black"/>
              </a:rPr>
              <a:t>УРАВНЕНИЕ</a:t>
            </a:r>
            <a:r>
              <a:rPr b="0" i="1" lang="en-US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4868640"/>
            <a:ext cx="54104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715000" cy="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97280" y="4005360"/>
            <a:ext cx="1231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Заполните пропуски букв в словах: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Ур...внение, рав…нство, н...рав...нство, выр...жение, ч...сло, ц...фра, ед...ница, выч...тание, д...ление, час...ное, п...р...м...стительное свойство, соч...тат...льное свой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8407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Назовите записи, которые являются уравнениями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2087640" cy="1407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88000" y="2803680"/>
            <a:ext cx="2376720" cy="149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76720" y="2637000"/>
            <a:ext cx="329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+ 8 =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40 = 2 •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• 3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•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Может ли уравнение иметь два разных корня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80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Назовите свой ответ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) Может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) Не может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) Не зна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шите каждое уравнение двумя способам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98) + 14 = 169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98) + 14 = 1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98 = ... — ..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... +... = 1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 + 98 = ..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 +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.. = 1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..                                   х =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)  (35 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) —15 = 31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35 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) —15 = 3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5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31... 15                  (35 —…) 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y =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5 + y 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 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В палатке живут четверо туристов: Иван, Петр, Сергей и Анатолий. К вечеру они решили, что трое пойдут в лес за хворостом для костра, а четвертый останется в палатке. Как могут распределиться между собой туристы: кто пойдет в лес и кто останется в палатке?</a:t>
            </a:r>
            <a:br>
              <a:rPr sz="2000"/>
            </a:b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 Рассмотрите все возможные случаи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6049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50840" y="4076640"/>
            <a:ext cx="898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аня старше Кости в 4 раза, а Костя старше Пети в 4 раза. Во сколько раз Ваня старше Пети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1528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ерите вер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850040"/>
            <a:ext cx="7272360" cy="37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4800" rIns="2853360" tIns="914040" bIns="4572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4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6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бинзон построил хижину на другом берегу реки, сделал лодку и решил перевезти все свои вещи в эту хижину. В лодку помещается 40 кг груза, а всего нужно перевезти 200 кг. Сколько раз Робинзону придется переезжать реку, чтобы перевезти все вещ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960720" cy="2278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2041560" cy="992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76360" y="47628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19280" y="620640"/>
            <a:ext cx="54936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706680" cy="92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651640" y="260280"/>
            <a:ext cx="7617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5:56:53Z</dcterms:created>
  <dc:creator>terexova</dc:creator>
  <dc:description/>
  <dc:language>en-US</dc:language>
  <cp:lastModifiedBy>terexova</cp:lastModifiedBy>
  <dcterms:modified xsi:type="dcterms:W3CDTF">2007-12-17T17:22:10Z</dcterms:modified>
  <cp:revision>25</cp:revision>
  <dc:subject/>
  <dc:title>Слайд 1</dc:title>
</cp:coreProperties>
</file>