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2.gif" ContentType="image/gif"/>
  <Override PartName="/ppt/media/image5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1CE5-085E-4840-A9BF-8D332098E1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2392-7E9A-4F88-AF52-96AAEEBD55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C57-E119-4636-B037-61DF24BC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A5C-FAA6-4C3E-9553-EB5C14E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2E1-24F2-46A1-87CA-F8FEF11C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831-0D1D-435C-A4E7-FADA78D1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B56-BACC-49A8-A996-47BF808D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51D9-774C-413F-AE64-A9C7C2E5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69DD-8911-4C9E-9A3C-B69670C0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DE68-2660-444C-977E-673408DB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2C62-5CFD-4493-8AB7-2378C7B2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2E02-2CCB-4A85-A4E0-EA00750A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436F-8583-44C5-96F7-D6ABEE35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8DE-D2A4-4522-A077-11A5BFDF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7BC3-75FF-45BD-9C07-299C0104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B342-1CCA-4237-9E58-A3F7D219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D033-4C61-4E2F-9A2F-5F35918A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092B-7229-45C3-A138-D31DB8C5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5224-EC03-4786-9097-41A297D1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FD3-433F-48B3-B40F-A80117FE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647-6743-492B-B8A1-861DB104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78D-0550-47FC-983D-A3803257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017-94E2-4A70-BF3A-0152AAF3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A1C-7951-4A90-8080-FA0ACA31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248-3E65-4D00-9ACE-A423593F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794-D2E3-4500-A538-E6B352C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7FE5-D0BB-4BEE-8EB5-D5AEC0F915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0A2C-6CFC-4F88-AD30-CAF745D1CD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униципальное образовательное учреждение «Остерская средняя (полная) общеобразовательная школ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ехова Татьяна Ивановна, дире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2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у-ка, встали, улыбнулис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уки вверх и … потянул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тянулись, потянул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руг на друга оглянулис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ы, конечно, лучше всех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м сопутствует успех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Содержимое 4" descr="2681bc90f39601326f5fc6410c64c417.gif"/>
          <p:cNvPicPr/>
          <p:nvPr/>
        </p:nvPicPr>
        <p:blipFill>
          <a:blip r:embed="rId1"/>
          <a:stretch/>
        </p:blipFill>
        <p:spPr>
          <a:xfrm>
            <a:off x="6583320" y="-214200"/>
            <a:ext cx="2560680" cy="20714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6" descr="af810832f169e92ec573e72213555ad4.gif"/>
          <p:cNvPicPr/>
          <p:nvPr/>
        </p:nvPicPr>
        <p:blipFill>
          <a:blip r:embed="rId2"/>
          <a:stretch/>
        </p:blipFill>
        <p:spPr>
          <a:xfrm>
            <a:off x="5286240" y="3143160"/>
            <a:ext cx="347184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0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азовите числа, при чтении которых произносят: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а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 слово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; б) </a:t>
            </a: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два слова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; в)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слова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0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16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1081080" cy="1511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2"/>
          <a:stretch/>
        </p:blipFill>
        <p:spPr>
          <a:xfrm>
            <a:off x="5940360" y="3789360"/>
            <a:ext cx="1244520" cy="1511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lines5"/>
          <p:cNvPicPr/>
          <p:nvPr/>
        </p:nvPicPr>
        <p:blipFill>
          <a:blip r:embed="rId3"/>
          <a:stretch/>
        </p:blipFill>
        <p:spPr>
          <a:xfrm>
            <a:off x="2700360" y="6237360"/>
            <a:ext cx="5715000" cy="9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at310"/>
          <p:cNvPicPr/>
          <p:nvPr/>
        </p:nvPicPr>
        <p:blipFill>
          <a:blip r:embed="rId4"/>
          <a:stretch/>
        </p:blipFill>
        <p:spPr>
          <a:xfrm>
            <a:off x="1908000" y="1844640"/>
            <a:ext cx="676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Назовите имя мальчика, правильно прочитавшего число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705 000 320 00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ждый из тро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ьчиков прочитал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ма: семьсот пять миллионов триста двадцать тысяч пя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тя: семьсот пять миллиардов тридцать две тысячи пя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лег: семьсот пять миллиардов триста двадцать тысяч пя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883120" y="5938920"/>
            <a:ext cx="17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ле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кие классы следуют за классом миллиардов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600200"/>
            <a:ext cx="225756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иллион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4140360" y="1700280"/>
            <a:ext cx="37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1 000 000 0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4143240" y="221472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Calibri"/>
              </a:rPr>
              <a:t>1 000 000 000 0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4214880" y="285768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alibri"/>
              </a:rPr>
              <a:t>1 000 000 000 000 0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4071960" y="3571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 000 000 000 000 000 0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Стрелка вправо 7"/>
          <p:cNvSpPr/>
          <p:nvPr/>
        </p:nvSpPr>
        <p:spPr>
          <a:xfrm>
            <a:off x="3000240" y="171468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Стрелка вправо 8"/>
          <p:cNvSpPr/>
          <p:nvPr/>
        </p:nvSpPr>
        <p:spPr>
          <a:xfrm>
            <a:off x="3071880" y="235728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трелка вправо 9"/>
          <p:cNvSpPr/>
          <p:nvPr/>
        </p:nvSpPr>
        <p:spPr>
          <a:xfrm>
            <a:off x="3071880" y="300024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право 10"/>
          <p:cNvSpPr/>
          <p:nvPr/>
        </p:nvSpPr>
        <p:spPr>
          <a:xfrm>
            <a:off x="3071880" y="371484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11"/>
          <p:cNvSpPr/>
          <p:nvPr/>
        </p:nvSpPr>
        <p:spPr>
          <a:xfrm>
            <a:off x="142920" y="221472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Квадрилл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12"/>
          <p:cNvSpPr/>
          <p:nvPr/>
        </p:nvSpPr>
        <p:spPr>
          <a:xfrm>
            <a:off x="250920" y="2857680"/>
            <a:ext cx="28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Квинтилл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13"/>
          <p:cNvSpPr/>
          <p:nvPr/>
        </p:nvSpPr>
        <p:spPr>
          <a:xfrm>
            <a:off x="223920" y="350028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кстилл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6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6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60"/>
                            </p:stCondLst>
                            <p:childTnLst>
                              <p:par>
                                <p:cTn id="5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Запишите прописью даты,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стречающиеся в предложениях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99"/>
                </a:solidFill>
                <a:latin typeface="Arial"/>
              </a:rPr>
              <a:t>«В 1687 (</a:t>
            </a:r>
            <a:r>
              <a:rPr b="0" lang="ru-RU" sz="2800" spc="-1" strike="noStrike">
                <a:solidFill>
                  <a:srgbClr val="66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ff99"/>
                </a:solidFill>
                <a:latin typeface="Arial"/>
              </a:rPr>
              <a:t>) году в Москве открылась Славяно-греко-латинская академ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Первый русский университет был основан в Москве в 1755 (      ) году М.В.Ломоносовы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«В сентябре 1997 (          ) года состоялось празднование 850-летия </a:t>
            </a: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Москв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4572000" y="5256360"/>
            <a:ext cx="37879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Надо смекнуть»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прави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хождения чисе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ещенных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олов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олните свобод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ж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572000" cy="1981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67" name="Picture 8" descr="cat315"/>
          <p:cNvPicPr/>
          <p:nvPr/>
        </p:nvPicPr>
        <p:blipFill>
          <a:blip r:embed="rId2"/>
          <a:stretch/>
        </p:blipFill>
        <p:spPr>
          <a:xfrm>
            <a:off x="7245360" y="4724280"/>
            <a:ext cx="1166760" cy="12970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9"/>
          <p:cNvSpPr/>
          <p:nvPr/>
        </p:nvSpPr>
        <p:spPr>
          <a:xfrm>
            <a:off x="8244000" y="184464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2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7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500"/>
                            </p:stCondLst>
                            <p:childTnLst>
                              <p:par>
                                <p:cTn id="7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42924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рно ли высказыван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50004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Каждое натуральное число имеет последующ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Каждое натуральное число имеет предыдущ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Существует наибольшее натураль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Существует наименьшее натураль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Нуль не является натуральным числ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Число 1- наименьшее натураль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Число 999 999 999 – наибольшее натураль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Число 999 999 999 – наибольшее девятизнач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С помощью десяти цифр можно записать любое натураль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.В записи числа 8 014 308 содержится 7 циф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.В записи числа 8 014 308 содержится 7 различных циф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.В числе 33 120 содержится одна сот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.В миллионе 1000 сот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2" descr="C:\Documents and Settings\Admin\Рабочий стол\натуральные числа\сова3.jpg"/>
          <p:cNvPicPr/>
          <p:nvPr/>
        </p:nvPicPr>
        <p:blipFill>
          <a:blip r:embed="rId1"/>
          <a:stretch/>
        </p:blipFill>
        <p:spPr>
          <a:xfrm>
            <a:off x="6786720" y="1143000"/>
            <a:ext cx="23572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1285920"/>
            <a:ext cx="27144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4357800" y="1143000"/>
            <a:ext cx="2786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к прошел для вас сегодня ур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то вам понравилось на урок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то не понравило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кое задание для вас было самым интерес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к вы оцениваете свою работу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" descr="C:\Documents and Settings\Admin\Рабочий стол\натуральные числа\2c9c69fea19bed3623f86b1bc0ee8145.gif"/>
          <p:cNvPicPr/>
          <p:nvPr/>
        </p:nvPicPr>
        <p:blipFill>
          <a:blip r:embed="rId1"/>
          <a:stretch/>
        </p:blipFill>
        <p:spPr>
          <a:xfrm>
            <a:off x="3286080" y="-14292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сем спасибо за урок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9" name="Picture 5" descr="C:\Documents and Settings\Admin\Рабочий стол\натуральные числа\106.jpg"/>
          <p:cNvPicPr/>
          <p:nvPr/>
        </p:nvPicPr>
        <p:blipFill>
          <a:blip r:embed="rId1"/>
          <a:stretch/>
        </p:blipFill>
        <p:spPr>
          <a:xfrm>
            <a:off x="3071880" y="2214720"/>
            <a:ext cx="268596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ОБОЗНАЧЕНИЕ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НАТУРАЛЬНЫХ ЧИСЕЛ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6" descr="cat026"/>
          <p:cNvPicPr/>
          <p:nvPr/>
        </p:nvPicPr>
        <p:blipFill>
          <a:blip r:embed="rId1"/>
          <a:stretch/>
        </p:blipFill>
        <p:spPr>
          <a:xfrm>
            <a:off x="5003640" y="3933720"/>
            <a:ext cx="25941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Выполните вычисления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и заполните пропуск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1403280" y="2565360"/>
            <a:ext cx="647640" cy="719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2050920" y="292428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176560" y="236844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2843280" y="2565360"/>
            <a:ext cx="936720" cy="719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3780000" y="292428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708360" y="2421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4500720" y="2565360"/>
            <a:ext cx="93636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5435640" y="292428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5487840" y="2440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6227640" y="2565360"/>
            <a:ext cx="93528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7164360" y="292428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7164360" y="242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20"/>
          <p:cNvSpPr/>
          <p:nvPr/>
        </p:nvSpPr>
        <p:spPr>
          <a:xfrm>
            <a:off x="7740720" y="2421000"/>
            <a:ext cx="863640" cy="93672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1"/>
          <p:cNvSpPr/>
          <p:nvPr/>
        </p:nvSpPr>
        <p:spPr>
          <a:xfrm>
            <a:off x="1332000" y="3645000"/>
            <a:ext cx="7189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2"/>
          <p:cNvSpPr/>
          <p:nvPr/>
        </p:nvSpPr>
        <p:spPr>
          <a:xfrm>
            <a:off x="2050920" y="400536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176560" y="359244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2843280" y="3716280"/>
            <a:ext cx="93672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5"/>
          <p:cNvSpPr/>
          <p:nvPr/>
        </p:nvSpPr>
        <p:spPr>
          <a:xfrm>
            <a:off x="3780000" y="400536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3903840" y="359244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7"/>
          <p:cNvSpPr/>
          <p:nvPr/>
        </p:nvSpPr>
        <p:spPr>
          <a:xfrm>
            <a:off x="4500720" y="3716280"/>
            <a:ext cx="93636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5435640" y="400536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364000" y="35924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 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30"/>
          <p:cNvSpPr/>
          <p:nvPr/>
        </p:nvSpPr>
        <p:spPr>
          <a:xfrm>
            <a:off x="6227640" y="3716280"/>
            <a:ext cx="863640" cy="57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31"/>
          <p:cNvSpPr/>
          <p:nvPr/>
        </p:nvSpPr>
        <p:spPr>
          <a:xfrm>
            <a:off x="7093080" y="4005360"/>
            <a:ext cx="57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7093080" y="357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33"/>
          <p:cNvSpPr/>
          <p:nvPr/>
        </p:nvSpPr>
        <p:spPr>
          <a:xfrm>
            <a:off x="7667640" y="3573360"/>
            <a:ext cx="934920" cy="86364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4"/>
          <p:cNvSpPr/>
          <p:nvPr/>
        </p:nvSpPr>
        <p:spPr>
          <a:xfrm>
            <a:off x="1332000" y="4941720"/>
            <a:ext cx="7189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5"/>
          <p:cNvSpPr/>
          <p:nvPr/>
        </p:nvSpPr>
        <p:spPr>
          <a:xfrm>
            <a:off x="2050920" y="530064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2176560" y="488952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2843280" y="5013360"/>
            <a:ext cx="93492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8"/>
          <p:cNvSpPr/>
          <p:nvPr/>
        </p:nvSpPr>
        <p:spPr>
          <a:xfrm>
            <a:off x="3780000" y="530064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3759120" y="4889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40"/>
          <p:cNvSpPr/>
          <p:nvPr/>
        </p:nvSpPr>
        <p:spPr>
          <a:xfrm>
            <a:off x="4572000" y="4941720"/>
            <a:ext cx="936720" cy="6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1"/>
          <p:cNvSpPr/>
          <p:nvPr/>
        </p:nvSpPr>
        <p:spPr>
          <a:xfrm>
            <a:off x="5508720" y="530064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5580000" y="4869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43"/>
          <p:cNvSpPr/>
          <p:nvPr/>
        </p:nvSpPr>
        <p:spPr>
          <a:xfrm>
            <a:off x="6300720" y="4941720"/>
            <a:ext cx="863640" cy="6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4"/>
          <p:cNvSpPr/>
          <p:nvPr/>
        </p:nvSpPr>
        <p:spPr>
          <a:xfrm>
            <a:off x="7164360" y="5300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164360" y="486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46"/>
          <p:cNvSpPr/>
          <p:nvPr/>
        </p:nvSpPr>
        <p:spPr>
          <a:xfrm>
            <a:off x="7667640" y="4869000"/>
            <a:ext cx="863640" cy="86364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Скругленная прямоугольная выноска 9" descr=""/>
          <p:cNvPicPr/>
          <p:nvPr/>
        </p:nvPicPr>
        <p:blipFill>
          <a:blip r:embed="rId1"/>
          <a:stretch/>
        </p:blipFill>
        <p:spPr>
          <a:xfrm>
            <a:off x="1298520" y="536400"/>
            <a:ext cx="6973920" cy="33703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7120" y="-1432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овые знан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2640" y="642600"/>
            <a:ext cx="70009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Числа, применяемые при  счете предметов, называются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туральными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7480" indent="-4474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1357200" y="785880"/>
            <a:ext cx="70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Любое число можно записать с помощью специальных знаков, который называют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фрами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857160" y="500040"/>
            <a:ext cx="73580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Последовательность всех натуральных чисел называют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натуральным рядом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: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1, 2, 3, 4, 5, 6, 7, 8, 9, 10, 11, 12, 13, 14, 15, 16, 17, 18, ..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4"/>
          <p:cNvSpPr/>
          <p:nvPr/>
        </p:nvSpPr>
        <p:spPr>
          <a:xfrm>
            <a:off x="1214280" y="78588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Любое натуральное число можно записать с помощью 10 цифр: 0,1,2,3,4,5,6,7,8,9. Такую запись называют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сятичной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1357200" y="857160"/>
            <a:ext cx="692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Самое маленькое натуральное число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диница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Натуральный ряд бесконечен, наибольшего числа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2" descr="C:\Documents and Settings\Admin\Рабочий стол\натуральные числа\сова1.jpg"/>
          <p:cNvPicPr/>
          <p:nvPr/>
        </p:nvPicPr>
        <p:blipFill>
          <a:blip r:embed="rId2"/>
          <a:srcRect l="5931" t="0" r="0" b="0"/>
          <a:stretch/>
        </p:blipFill>
        <p:spPr>
          <a:xfrm>
            <a:off x="0" y="3429000"/>
            <a:ext cx="2266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5"/>
          <p:cNvSpPr/>
          <p:nvPr/>
        </p:nvSpPr>
        <p:spPr>
          <a:xfrm>
            <a:off x="1857240" y="1928880"/>
            <a:ext cx="192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ХХ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6"/>
          <p:cNvSpPr/>
          <p:nvPr/>
        </p:nvSpPr>
        <p:spPr>
          <a:xfrm>
            <a:off x="3439440" y="192888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Arial"/>
              </a:rPr>
              <a:t>ХХ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7"/>
          <p:cNvSpPr/>
          <p:nvPr/>
        </p:nvSpPr>
        <p:spPr>
          <a:xfrm>
            <a:off x="5011200" y="192888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ХХ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6582240" y="1928880"/>
            <a:ext cx="17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ХХ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Левая фигурная скобка 9"/>
          <p:cNvSpPr/>
          <p:nvPr/>
        </p:nvSpPr>
        <p:spPr>
          <a:xfrm rot="16200000">
            <a:off x="7090560" y="2410200"/>
            <a:ext cx="642600" cy="1536480"/>
          </a:xfrm>
          <a:custGeom>
            <a:avLst/>
            <a:gdLst>
              <a:gd name="textAreaLeft" fmla="*/ 410760 w 642600"/>
              <a:gd name="textAreaRight" fmla="*/ 642960 w 642600"/>
              <a:gd name="textAreaTop" fmla="*/ 16560 h 1536480"/>
              <a:gd name="textAreaBottom" fmla="*/ 1519920 h 153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7"/>
                  <a:pt x="10800" y="753"/>
                </a:cubicBezTo>
                <a:lnTo>
                  <a:pt x="10800" y="10047"/>
                </a:lnTo>
                <a:cubicBezTo>
                  <a:pt x="10800" y="10424"/>
                  <a:pt x="5400" y="10800"/>
                  <a:pt x="0" y="10800"/>
                </a:cubicBezTo>
                <a:cubicBezTo>
                  <a:pt x="5400" y="10800"/>
                  <a:pt x="10800" y="11177"/>
                  <a:pt x="10800" y="11553"/>
                </a:cubicBezTo>
                <a:lnTo>
                  <a:pt x="10800" y="20847"/>
                </a:lnTo>
                <a:cubicBezTo>
                  <a:pt x="10800" y="2122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6572160" y="364320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дин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Левая фигурная скобка 11"/>
          <p:cNvSpPr/>
          <p:nvPr/>
        </p:nvSpPr>
        <p:spPr>
          <a:xfrm rot="16200000">
            <a:off x="5090400" y="2410200"/>
            <a:ext cx="642600" cy="1536840"/>
          </a:xfrm>
          <a:custGeom>
            <a:avLst/>
            <a:gdLst>
              <a:gd name="textAreaLeft" fmla="*/ 410760 w 642600"/>
              <a:gd name="textAreaRight" fmla="*/ 642960 w 642600"/>
              <a:gd name="textAreaTop" fmla="*/ 16560 h 1536840"/>
              <a:gd name="textAreaBottom" fmla="*/ 1520280 h 153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7"/>
                  <a:pt x="10800" y="753"/>
                </a:cubicBezTo>
                <a:lnTo>
                  <a:pt x="10800" y="10047"/>
                </a:lnTo>
                <a:cubicBezTo>
                  <a:pt x="10800" y="10424"/>
                  <a:pt x="5400" y="10800"/>
                  <a:pt x="0" y="10800"/>
                </a:cubicBezTo>
                <a:cubicBezTo>
                  <a:pt x="5400" y="10800"/>
                  <a:pt x="10800" y="11177"/>
                  <a:pt x="10800" y="11553"/>
                </a:cubicBezTo>
                <a:lnTo>
                  <a:pt x="10800" y="20847"/>
                </a:lnTo>
                <a:cubicBezTo>
                  <a:pt x="10800" y="2122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4643280" y="364320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ыся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Левая фигурная скобка 13"/>
          <p:cNvSpPr/>
          <p:nvPr/>
        </p:nvSpPr>
        <p:spPr>
          <a:xfrm rot="16200000">
            <a:off x="3089160" y="2410920"/>
            <a:ext cx="642600" cy="1535040"/>
          </a:xfrm>
          <a:custGeom>
            <a:avLst/>
            <a:gdLst>
              <a:gd name="textAreaLeft" fmla="*/ 410760 w 642600"/>
              <a:gd name="textAreaRight" fmla="*/ 642960 w 642600"/>
              <a:gd name="textAreaTop" fmla="*/ 16560 h 1535040"/>
              <a:gd name="textAreaBottom" fmla="*/ 1518480 h 15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7"/>
                  <a:pt x="10800" y="753"/>
                </a:cubicBezTo>
                <a:lnTo>
                  <a:pt x="10800" y="10047"/>
                </a:lnTo>
                <a:cubicBezTo>
                  <a:pt x="10800" y="10424"/>
                  <a:pt x="5400" y="10800"/>
                  <a:pt x="0" y="10800"/>
                </a:cubicBezTo>
                <a:cubicBezTo>
                  <a:pt x="5400" y="10800"/>
                  <a:pt x="10800" y="11177"/>
                  <a:pt x="10800" y="11553"/>
                </a:cubicBezTo>
                <a:lnTo>
                  <a:pt x="10800" y="20847"/>
                </a:lnTo>
                <a:cubicBezTo>
                  <a:pt x="10800" y="2122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21d5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2214720" y="364320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миллио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Левая фигурная скобка 15"/>
          <p:cNvSpPr/>
          <p:nvPr/>
        </p:nvSpPr>
        <p:spPr>
          <a:xfrm rot="16200000">
            <a:off x="1130400" y="2406600"/>
            <a:ext cx="642960" cy="1535040"/>
          </a:xfrm>
          <a:custGeom>
            <a:avLst/>
            <a:gdLst>
              <a:gd name="textAreaLeft" fmla="*/ 410760 w 642960"/>
              <a:gd name="textAreaRight" fmla="*/ 642960 w 642960"/>
              <a:gd name="textAreaTop" fmla="*/ 0 h 1535040"/>
              <a:gd name="textAreaBottom" fmla="*/ 1535400 h 15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e12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16"/>
          <p:cNvSpPr/>
          <p:nvPr/>
        </p:nvSpPr>
        <p:spPr>
          <a:xfrm>
            <a:off x="0" y="36432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миллиар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8"/>
          <p:cNvSpPr/>
          <p:nvPr/>
        </p:nvSpPr>
        <p:spPr>
          <a:xfrm>
            <a:off x="1143000" y="21420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ак прочитать число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2" descr="C:\Documents and Settings\Admin\Рабочий стол\натуральные числа\сова3.jpg"/>
          <p:cNvPicPr/>
          <p:nvPr/>
        </p:nvPicPr>
        <p:blipFill>
          <a:blip r:embed="rId1"/>
          <a:stretch/>
        </p:blipFill>
        <p:spPr>
          <a:xfrm>
            <a:off x="6357960" y="4255920"/>
            <a:ext cx="26431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-0.05469 -0.00231 E">
                                      <p:cBhvr>
                                        <p:cTn id="13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L -0.0875 -0.00231 E">
                                      <p:cBhvr>
                                        <p:cTn id="13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13143 -0.00231 E">
                                      <p:cBhvr>
                                        <p:cTn id="14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6842160" cy="33606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Запись каждого числа разделите черточками справа налево по три цифры.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читайте каждое число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3780000" y="3213000"/>
            <a:ext cx="169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3492360" y="2997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3029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3564000" y="3357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0009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643280" y="2997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4141440" y="2997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4356000" y="3357720"/>
            <a:ext cx="4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851280" y="335772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Таблица 20" descr=""/>
          <p:cNvPicPr/>
          <p:nvPr/>
        </p:nvPicPr>
        <p:blipFill>
          <a:blip r:embed="rId1"/>
          <a:stretch/>
        </p:blipFill>
        <p:spPr>
          <a:xfrm>
            <a:off x="212760" y="1285920"/>
            <a:ext cx="8480520" cy="43592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з каких разрядных слагаемых складывается число 6 253 724 859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2071800" y="574992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2643120" y="5749920"/>
            <a:ext cx="57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3214800" y="5749920"/>
            <a:ext cx="57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3786120" y="5749920"/>
            <a:ext cx="57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4429080" y="574992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4929120" y="574992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5500800" y="5749920"/>
            <a:ext cx="71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6072120" y="574992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14"/>
          <p:cNvSpPr/>
          <p:nvPr/>
        </p:nvSpPr>
        <p:spPr>
          <a:xfrm>
            <a:off x="6643800" y="5749920"/>
            <a:ext cx="57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5"/>
          <p:cNvSpPr/>
          <p:nvPr/>
        </p:nvSpPr>
        <p:spPr>
          <a:xfrm>
            <a:off x="7215120" y="574992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авая фигурная скобка 16"/>
          <p:cNvSpPr/>
          <p:nvPr/>
        </p:nvSpPr>
        <p:spPr>
          <a:xfrm rot="5400000">
            <a:off x="7251120" y="5036400"/>
            <a:ext cx="785520" cy="2000160"/>
          </a:xfrm>
          <a:custGeom>
            <a:avLst/>
            <a:gdLst>
              <a:gd name="textAreaLeft" fmla="*/ 0 w 785520"/>
              <a:gd name="textAreaRight" fmla="*/ 283680 w 78552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авая фигурная скобка 17"/>
          <p:cNvSpPr/>
          <p:nvPr/>
        </p:nvSpPr>
        <p:spPr>
          <a:xfrm rot="5400000">
            <a:off x="5286600" y="5072040"/>
            <a:ext cx="785520" cy="1928880"/>
          </a:xfrm>
          <a:custGeom>
            <a:avLst/>
            <a:gdLst>
              <a:gd name="textAreaLeft" fmla="*/ 0 w 785520"/>
              <a:gd name="textAreaRight" fmla="*/ 283680 w 785520"/>
              <a:gd name="textAreaTop" fmla="*/ 20160 h 1928880"/>
              <a:gd name="textAreaBottom" fmla="*/ 19087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7"/>
                  <a:pt x="10800" y="733"/>
                </a:cubicBezTo>
                <a:lnTo>
                  <a:pt x="10800" y="11080"/>
                </a:lnTo>
                <a:cubicBezTo>
                  <a:pt x="10800" y="11447"/>
                  <a:pt x="16200" y="11813"/>
                  <a:pt x="21600" y="11813"/>
                </a:cubicBezTo>
                <a:cubicBezTo>
                  <a:pt x="16200" y="11813"/>
                  <a:pt x="10800" y="12180"/>
                  <a:pt x="10800" y="12546"/>
                </a:cubicBezTo>
                <a:lnTo>
                  <a:pt x="10800" y="20867"/>
                </a:lnTo>
                <a:cubicBezTo>
                  <a:pt x="10800" y="212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авая фигурная скобка 18"/>
          <p:cNvSpPr/>
          <p:nvPr/>
        </p:nvSpPr>
        <p:spPr>
          <a:xfrm rot="5400000">
            <a:off x="3250440" y="4965120"/>
            <a:ext cx="714240" cy="207144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2071440"/>
              <a:gd name="textAreaBottom" fmla="*/ 2053080 h 20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1"/>
                  <a:pt x="10800" y="621"/>
                </a:cubicBezTo>
                <a:lnTo>
                  <a:pt x="10800" y="10576"/>
                </a:lnTo>
                <a:cubicBezTo>
                  <a:pt x="10800" y="10887"/>
                  <a:pt x="16200" y="11197"/>
                  <a:pt x="21600" y="11197"/>
                </a:cubicBezTo>
                <a:cubicBezTo>
                  <a:pt x="16200" y="11197"/>
                  <a:pt x="10800" y="11508"/>
                  <a:pt x="10800" y="11818"/>
                </a:cubicBezTo>
                <a:lnTo>
                  <a:pt x="10800" y="20979"/>
                </a:lnTo>
                <a:cubicBezTo>
                  <a:pt x="10800" y="2129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Группа 33"/>
          <p:cNvGrpSpPr/>
          <p:nvPr/>
        </p:nvGrpSpPr>
        <p:grpSpPr>
          <a:xfrm>
            <a:off x="6785640" y="2285640"/>
            <a:ext cx="1572480" cy="2357640"/>
            <a:chOff x="6785640" y="2285640"/>
            <a:chExt cx="1572480" cy="2357640"/>
          </a:xfrm>
        </p:grpSpPr>
        <p:cxnSp>
          <p:nvCxnSpPr>
            <p:cNvPr id="311" name="Прямая со стрелкой 22"/>
            <p:cNvCxnSpPr/>
            <p:nvPr/>
          </p:nvCxnSpPr>
          <p:spPr>
            <a:xfrm flipH="1" flipV="1">
              <a:off x="7715160" y="2285640"/>
              <a:ext cx="643320" cy="2358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12" name="Прямая со стрелкой 24"/>
            <p:cNvCxnSpPr/>
            <p:nvPr/>
          </p:nvCxnSpPr>
          <p:spPr>
            <a:xfrm flipH="1" flipV="1">
              <a:off x="7500600" y="2285640"/>
              <a:ext cx="72000" cy="2358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13" name="Прямая со стрелкой 26"/>
            <p:cNvCxnSpPr/>
            <p:nvPr/>
          </p:nvCxnSpPr>
          <p:spPr>
            <a:xfrm flipV="1">
              <a:off x="6785640" y="2356920"/>
              <a:ext cx="500760" cy="2286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314" name="Группа 42"/>
          <p:cNvGrpSpPr/>
          <p:nvPr/>
        </p:nvGrpSpPr>
        <p:grpSpPr>
          <a:xfrm>
            <a:off x="4856760" y="2356560"/>
            <a:ext cx="1358280" cy="2358000"/>
            <a:chOff x="4856760" y="2356560"/>
            <a:chExt cx="1358280" cy="2358000"/>
          </a:xfrm>
        </p:grpSpPr>
        <p:cxnSp>
          <p:nvCxnSpPr>
            <p:cNvPr id="315" name="Прямая со стрелкой 35"/>
            <p:cNvCxnSpPr/>
            <p:nvPr/>
          </p:nvCxnSpPr>
          <p:spPr>
            <a:xfrm flipH="1" flipV="1">
              <a:off x="5857560" y="2356560"/>
              <a:ext cx="357840" cy="2358360"/>
            </a:xfrm>
            <a:prstGeom prst="straightConnector1">
              <a:avLst/>
            </a:prstGeom>
            <a:ln w="38160">
              <a:solidFill>
                <a:srgbClr val="65ffff"/>
              </a:solidFill>
              <a:miter/>
              <a:tailEnd len="med" type="arrow" w="med"/>
            </a:ln>
          </p:spPr>
        </p:cxnSp>
        <p:cxnSp>
          <p:nvCxnSpPr>
            <p:cNvPr id="316" name="Прямая со стрелкой 37"/>
            <p:cNvCxnSpPr/>
            <p:nvPr/>
          </p:nvCxnSpPr>
          <p:spPr>
            <a:xfrm flipV="1">
              <a:off x="5500080" y="2357280"/>
              <a:ext cx="2160" cy="2296080"/>
            </a:xfrm>
            <a:prstGeom prst="straightConnector1">
              <a:avLst/>
            </a:prstGeom>
            <a:ln w="38160">
              <a:solidFill>
                <a:srgbClr val="66ffff"/>
              </a:solidFill>
              <a:miter/>
              <a:tailEnd len="med" type="arrow" w="med"/>
            </a:ln>
          </p:spPr>
        </p:cxnSp>
        <p:cxnSp>
          <p:nvCxnSpPr>
            <p:cNvPr id="317" name="Прямая со стрелкой 39"/>
            <p:cNvCxnSpPr/>
            <p:nvPr/>
          </p:nvCxnSpPr>
          <p:spPr>
            <a:xfrm flipV="1">
              <a:off x="4856760" y="2356560"/>
              <a:ext cx="286200" cy="2358360"/>
            </a:xfrm>
            <a:prstGeom prst="straightConnector1">
              <a:avLst/>
            </a:prstGeom>
            <a:ln w="38160">
              <a:solidFill>
                <a:srgbClr val="65ffff"/>
              </a:solidFill>
              <a:miter/>
              <a:tailEnd len="med" type="arrow" w="med"/>
            </a:ln>
          </p:spPr>
        </p:cxnSp>
      </p:grpSp>
      <p:grpSp>
        <p:nvGrpSpPr>
          <p:cNvPr id="318" name="Группа 56"/>
          <p:cNvGrpSpPr/>
          <p:nvPr/>
        </p:nvGrpSpPr>
        <p:grpSpPr>
          <a:xfrm>
            <a:off x="2784960" y="2285640"/>
            <a:ext cx="1429920" cy="2500560"/>
            <a:chOff x="2784960" y="2285640"/>
            <a:chExt cx="1429920" cy="2500560"/>
          </a:xfrm>
        </p:grpSpPr>
        <p:cxnSp>
          <p:nvCxnSpPr>
            <p:cNvPr id="319" name="Прямая со стрелкой 44"/>
            <p:cNvCxnSpPr/>
            <p:nvPr/>
          </p:nvCxnSpPr>
          <p:spPr>
            <a:xfrm flipH="1" flipV="1">
              <a:off x="3857400" y="2285640"/>
              <a:ext cx="357840" cy="2433600"/>
            </a:xfrm>
            <a:prstGeom prst="straightConnector1">
              <a:avLst/>
            </a:prstGeom>
            <a:ln w="38160">
              <a:solidFill>
                <a:srgbClr val="00ff00"/>
              </a:solidFill>
              <a:miter/>
              <a:tailEnd len="med" type="arrow" w="med"/>
            </a:ln>
          </p:spPr>
        </p:cxnSp>
        <p:cxnSp>
          <p:nvCxnSpPr>
            <p:cNvPr id="320" name="Прямая со стрелкой 46"/>
            <p:cNvCxnSpPr/>
            <p:nvPr/>
          </p:nvCxnSpPr>
          <p:spPr>
            <a:xfrm flipH="1" flipV="1">
              <a:off x="3428640" y="2352960"/>
              <a:ext cx="72000" cy="2433600"/>
            </a:xfrm>
            <a:prstGeom prst="straightConnector1">
              <a:avLst/>
            </a:prstGeom>
            <a:ln w="38160">
              <a:solidFill>
                <a:srgbClr val="00ff00"/>
              </a:solidFill>
              <a:miter/>
              <a:tailEnd len="med" type="arrow" w="med"/>
            </a:ln>
          </p:spPr>
        </p:cxnSp>
        <p:cxnSp>
          <p:nvCxnSpPr>
            <p:cNvPr id="321" name="Прямая со стрелкой 48"/>
            <p:cNvCxnSpPr/>
            <p:nvPr/>
          </p:nvCxnSpPr>
          <p:spPr>
            <a:xfrm flipV="1">
              <a:off x="2784960" y="2352960"/>
              <a:ext cx="214920" cy="2365920"/>
            </a:xfrm>
            <a:prstGeom prst="straightConnector1">
              <a:avLst/>
            </a:prstGeom>
            <a:ln w="38160">
              <a:solidFill>
                <a:srgbClr val="00ff00"/>
              </a:solidFill>
              <a:miter/>
              <a:tailEnd len="med" type="arrow" w="med"/>
            </a:ln>
          </p:spPr>
        </p:cxnSp>
      </p:grpSp>
      <p:cxnSp>
        <p:nvCxnSpPr>
          <p:cNvPr id="322" name="Прямая со стрелкой 58"/>
          <p:cNvCxnSpPr/>
          <p:nvPr/>
        </p:nvCxnSpPr>
        <p:spPr>
          <a:xfrm flipH="1" flipV="1">
            <a:off x="1571400" y="2356920"/>
            <a:ext cx="429120" cy="2286720"/>
          </a:xfrm>
          <a:prstGeom prst="straightConnector1">
            <a:avLst/>
          </a:prstGeom>
          <a:ln w="38160">
            <a:solidFill>
              <a:srgbClr val="9e1294"/>
            </a:solidFill>
            <a:miter/>
            <a:tailEnd len="med" type="arrow" w="med"/>
          </a:ln>
        </p:spPr>
      </p:cxnSp>
      <p:sp>
        <p:nvSpPr>
          <p:cNvPr id="323" name="Левая фигурная скобка 29"/>
          <p:cNvSpPr/>
          <p:nvPr/>
        </p:nvSpPr>
        <p:spPr>
          <a:xfrm rot="16200000">
            <a:off x="1107360" y="4893120"/>
            <a:ext cx="571320" cy="20718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071800"/>
              <a:gd name="textAreaBottom" fmla="*/ 205704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9"/>
                  <a:pt x="10800" y="497"/>
                </a:cubicBezTo>
                <a:lnTo>
                  <a:pt x="10800" y="9972"/>
                </a:lnTo>
                <a:cubicBezTo>
                  <a:pt x="10800" y="10221"/>
                  <a:pt x="5400" y="10469"/>
                  <a:pt x="0" y="10469"/>
                </a:cubicBezTo>
                <a:cubicBezTo>
                  <a:pt x="5400" y="10469"/>
                  <a:pt x="10800" y="10718"/>
                  <a:pt x="10800" y="10966"/>
                </a:cubicBezTo>
                <a:lnTo>
                  <a:pt x="10800" y="21103"/>
                </a:lnTo>
                <a:cubicBezTo>
                  <a:pt x="10800" y="2135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e12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89017E-007 L 0.08923 -0.15653 E">
                                      <p:cBhvr>
                                        <p:cTn id="250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9017E-007 L 0.07292 -0.15653 E">
                                      <p:cBhvr>
                                        <p:cTn id="259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91329E-006 L 0.05521 -0.15653 E">
                                      <p:cBhvr>
                                        <p:cTn id="268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500"/>
                            </p:stCondLst>
                            <p:childTnLst>
                              <p:par>
                                <p:cTn id="2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89017E-007 L 0.04844 -0.15653 E">
                                      <p:cBhvr>
                                        <p:cTn id="281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0.0283 -0.15671 E">
                                      <p:cBhvr>
                                        <p:cTn id="290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0.01979 -0.15671 E">
                                      <p:cBhvr>
                                        <p:cTn id="299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0.01528 -0.15671 E">
                                      <p:cBhvr>
                                        <p:cTn id="312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9017E-007 L 0.00695 -0.15653 E">
                                      <p:cBhvr>
                                        <p:cTn id="321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-0.00937 -0.15671 E">
                                      <p:cBhvr>
                                        <p:cTn id="330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8500"/>
                            </p:stCondLst>
                            <p:childTnLst>
                              <p:par>
                                <p:cTn id="3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9500"/>
                            </p:stCondLst>
                            <p:childTnLst>
                              <p:par>
                                <p:cTn id="3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6296E-006 L -0.02153 -0.15671 E">
                                      <p:cBhvr>
                                        <p:cTn id="346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3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30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3500"/>
                            </p:stCondLst>
                            <p:childTnLst>
                              <p:par>
                                <p:cTn id="3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4500"/>
                            </p:stCondLst>
                            <p:childTnLst>
                              <p:par>
                                <p:cTn id="3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500"/>
                            </p:stCondLst>
                            <p:childTnLst>
                              <p:par>
                                <p:cTn id="3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65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7000"/>
                            </p:stCondLst>
                            <p:childTnLst>
                              <p:par>
                                <p:cTn id="3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8000"/>
                            </p:stCondLst>
                            <p:childTnLst>
                              <p:par>
                                <p:cTn id="3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9000"/>
                            </p:stCondLst>
                            <p:childTnLst>
                              <p:par>
                                <p:cTn id="3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500"/>
                            </p:stCondLst>
                            <p:childTnLst>
                              <p:par>
                                <p:cTn id="3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1500"/>
                            </p:stCondLst>
                            <p:childTnLst>
                              <p:par>
                                <p:cTn id="4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2500"/>
                            </p:stCondLst>
                            <p:childTnLst>
                              <p:par>
                                <p:cTn id="4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35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4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0"/>
                            </p:stCondLst>
                            <p:childTnLst>
                              <p:par>
                                <p:cTn id="4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8588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1 миллион или 1 млн = 1000 000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Заголовок 1"/>
          <p:cNvSpPr/>
          <p:nvPr/>
        </p:nvSpPr>
        <p:spPr>
          <a:xfrm>
            <a:off x="571680" y="271476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1 миллиард или 1 млрд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ff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1 000 000 000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Заголовок 1"/>
          <p:cNvSpPr/>
          <p:nvPr/>
        </p:nvSpPr>
        <p:spPr>
          <a:xfrm>
            <a:off x="428760" y="500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1 000 000 000 = 1 000 тыс. млн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Заголовок 1"/>
          <p:cNvSpPr/>
          <p:nvPr/>
        </p:nvSpPr>
        <p:spPr>
          <a:xfrm>
            <a:off x="71424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кие числа записаны в виде суммы разрядных слагаемых? Прочитайте их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0 000 + 7000 + 300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 + 9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000 000 + 70 000 + 8000 + 600 + 5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00 000 + 3000 + 700 + 20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000 + 600 + 1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8" descr="lines5"/>
          <p:cNvPicPr/>
          <p:nvPr/>
        </p:nvPicPr>
        <p:blipFill>
          <a:blip r:embed="rId1"/>
          <a:stretch/>
        </p:blipFill>
        <p:spPr>
          <a:xfrm>
            <a:off x="2700360" y="6237360"/>
            <a:ext cx="5715000" cy="9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9"/>
          <p:cNvSpPr/>
          <p:nvPr/>
        </p:nvSpPr>
        <p:spPr>
          <a:xfrm>
            <a:off x="6659640" y="1628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673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292720" y="342900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40786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615636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9037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3995640" y="5157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86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9:33:17Z</dcterms:created>
  <dc:creator>terexova</dc:creator>
  <dc:description/>
  <dc:language>en-US</dc:language>
  <cp:lastModifiedBy>Учитель</cp:lastModifiedBy>
  <dcterms:modified xsi:type="dcterms:W3CDTF">2012-12-05T20:29:15Z</dcterms:modified>
  <cp:revision>34</cp:revision>
  <dc:subject/>
  <dc:title>Слайд 1</dc:title>
</cp:coreProperties>
</file>