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9D6-14F2-448E-9872-9EF594F0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B48-8358-4E25-9C0B-EB622DEE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4ED-47C4-4E01-8223-EF87833C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369-5DF0-4008-BC65-C029BE29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CB16-B3A0-4B36-9849-77128F17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FCF6-880A-4986-9E25-3B3A7AD2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10D9-6034-4CC0-8ADD-87E5F690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ACB9-A5F2-4C61-B4B2-AD8ACDC6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74D7-DA44-480A-A8BC-88E7FF13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69B6-FF25-4C23-A2F7-D2E34B6E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1F69-E7C8-4234-8014-A56434C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075-AF2B-47C2-9952-AA633014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D00B-B285-48EC-9F3A-A2A817DC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4D5-C625-40BC-92E0-02B235FB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8D61-F895-455D-9898-2E7B52EC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5F4D-9B1F-42DF-9E93-0DE5539E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0052-2778-45BD-9677-589D536C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9D4-4EC5-46A2-8FE1-57471FF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369-E04D-4D9D-AA5E-8F33475A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4C2-3BF8-42E0-84D6-036DF160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024-1DD3-4167-A568-B51CC7B6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FD7-93EB-4606-9A64-1D73F8EF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034-BDAD-4408-8F42-B0BB768D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654-69F0-4C4E-801A-E38F104D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5FE4-21FC-4891-A80F-5060052D5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6473-1728-4876-9F23-41D067F6D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ФОРМУЛ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•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68a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числите длину пути по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уле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6 м/мин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25 мин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96 • 25 =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= 7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м/ч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6 ч, т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числите скорость движения по формуле: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240 км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2 ч, то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240 : 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15 м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 с, то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68a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числите время движения по формуле: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64 км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 км/с, т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64 : 8 Есл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132 км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12 км/ч, то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29800" cy="18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684360" y="2708280"/>
          <a:ext cx="7775280" cy="38545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38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: 7 = 3 (ост. 5)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= (26 - ... ): .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= (26- ... ): .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= 26 — 7 •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= 7 • ... + .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0068a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: 12 = 4 (ост. 2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=   ... • 4 +   .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= ( ... -2): ...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= ( ...    -2): 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= …—  … • 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0068a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о формуле </a:t>
            </a: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х = 2п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ожно получить любое четное натуральное числ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пишите формулу для получения любого нечетного натурального чи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Сколько четырехугольников изображено на рисунке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22:22Z</dcterms:created>
  <dc:creator>terexova</dc:creator>
  <dc:description/>
  <dc:language>en-US</dc:language>
  <cp:lastModifiedBy>terexova</cp:lastModifiedBy>
  <dcterms:modified xsi:type="dcterms:W3CDTF">2007-10-27T20:04:26Z</dcterms:modified>
  <cp:revision>11</cp:revision>
  <dc:subject/>
  <dc:title>Слайд 1</dc:title>
</cp:coreProperties>
</file>