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1A1-8FFC-435C-AB2C-0E53507B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7A9-9CB5-456A-AF52-9E9174DF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DE4-E288-4DB2-82AE-6FA9DF7F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057-31B1-438F-907D-ACB10FE0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4F41-C0F8-4384-B5A9-B1C6F198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BCE3-46D7-4F5A-B11D-F381CCFC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06E3-CC1A-41D1-B3F4-DDAEC20F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61C8-6C40-483F-BF19-3C1EE8C6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E711-D666-4E66-AD25-B03140EF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CB85-8584-4489-ABAA-BF9478BA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7EB9-D9FF-4BD4-807B-EE9BFC4A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390-FB5C-4708-944E-63C10584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708A-9DB9-47E0-BF4F-5729E303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7B0E-2B09-4484-837A-0F77B5A4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5ACF-AF5A-4C28-84D1-F91D8C40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9493-F8FF-4E26-939B-BBAE596F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46CC-00C4-453E-83EB-44B51FA1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F01-7F48-464F-BCD7-D94D8748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2DB-2C52-4BFD-A122-23281E44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02A-C7B9-4B71-BC0F-385CC1D3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32A-25FB-4C92-AD1F-AE3882E4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DB5-CD09-4A76-B35D-15D98F3C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CC9-7409-4F20-973A-27EECB98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35D-F3BC-4D57-A14E-D236F4D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6050-2AA0-460D-B6D5-28CE631C12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271F-0A79-42A3-823E-752C01CF10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1fd4f"/>
                </a:solidFill>
                <a:latin typeface="Arial"/>
              </a:rPr>
              <a:t>Не зная прошлого науки, трудно понять ее настоящее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Рассказы об истории возникновения и развития математ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dbbd71"/>
                </a:solidFill>
                <a:latin typeface="Arial"/>
              </a:rPr>
              <a:t>До сих пор используются и </a:t>
            </a:r>
            <a:r>
              <a:rPr b="1" i="1" lang="ru-RU" sz="2400" spc="-1" strike="noStrike">
                <a:solidFill>
                  <a:srgbClr val="81fd4f"/>
                </a:solidFill>
                <a:latin typeface="Arial"/>
              </a:rPr>
              <a:t>римские цифры</a:t>
            </a:r>
            <a:r>
              <a:rPr b="1" i="1" lang="ru-RU" sz="2400" spc="-1" strike="noStrike">
                <a:solidFill>
                  <a:srgbClr val="dbbd71"/>
                </a:solidFill>
                <a:latin typeface="Arial"/>
              </a:rPr>
              <a:t>,</a:t>
            </a:r>
            <a:br>
              <a:rPr sz="2400"/>
            </a:br>
            <a:r>
              <a:rPr b="1" i="1" lang="ru-RU" sz="2400" spc="-1" strike="noStrike">
                <a:solidFill>
                  <a:srgbClr val="dbbd71"/>
                </a:solidFill>
                <a:latin typeface="Arial"/>
              </a:rPr>
              <a:t> которые употреблялись в Древнем Риме уже около 2500 лет тому назад.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— 1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V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— 5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— 10,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— 50, С — 100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— 500, М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1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стальные числа записываются этими цифрами с применением сложения и вычитания. Так, например, число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XVII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значает 27, так к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10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10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1 = 2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dbbd71"/>
                </a:solidFill>
                <a:latin typeface="Arial"/>
              </a:rPr>
              <a:t>Если меньшая по значению цифра (</a:t>
            </a: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dbbd71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dbbd71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dbbd71"/>
                </a:solidFill>
                <a:latin typeface="Arial"/>
              </a:rPr>
              <a:t>, С) стоит перед большей, то ее значение вычитается.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пример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V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значает 4 (5 - 1 = 4)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X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значает 9(10 - 1 = 9), ХС означает 90. Таким образом, число МСМЬХХХТХ означает 1989, так к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1000 + (1000 - 100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50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10 + 10 + 10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10 - 1) =198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настоящее время римские цифры обычно применяются при нумерации глав и разделов книги, месяцев года, для обозначений дат значительных событий, годовщ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ля вычислений запись чисел с помощью римских цифр неудобна. В этом вы можете убедиться сами, если попробуете выполнить, например, сложение чисел ССХС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II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и Х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 или деление числа ССХС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II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на число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X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71640" y="5711760"/>
            <a:ext cx="230508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1fd4f"/>
                </a:solidFill>
                <a:latin typeface="Arial"/>
              </a:rPr>
              <a:t>Системы счисления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 наше время почти все народы пользуются счетом десятками, сотнями, тысячами, то есть </a:t>
            </a:r>
            <a:r>
              <a:rPr b="0" i="1" lang="en-US" sz="2400" spc="-1" strike="noStrike">
                <a:solidFill>
                  <a:srgbClr val="81fd4f"/>
                </a:solidFill>
                <a:latin typeface="Tahoma"/>
              </a:rPr>
              <a:t>десятичной системой счисления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 ней, как вы уже знаете, значение цифры зависит от места (позиции), которое она занимает в записи числа. Поэтому такую систему счисления называют </a:t>
            </a:r>
            <a:r>
              <a:rPr b="0" i="1" lang="en-US" sz="2400" spc="-1" strike="noStrike">
                <a:solidFill>
                  <a:srgbClr val="81fd4f"/>
                </a:solidFill>
                <a:latin typeface="Tahoma"/>
              </a:rPr>
              <a:t>позиционной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Раньше некоторые народы применяли другие системы счета. В теплых странах Африки и Америки, где люди ходили босыми, для счета применялись не только пальцы рук, но и пальцы ног. Получался счет двадцат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А пять тысяч лет назад в некоторых странах Востока пользовались шестидесятеричной системой счисления, то есть системой счисления с основанием 60. Эта система была первой позиционной системо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1fd4f"/>
                </a:solidFill>
                <a:latin typeface="Arial"/>
              </a:rPr>
              <a:t>Системы счисления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Следы шестидесятеричной системы счисления сохранились до сих пор: мы и сейчас делим час на 60 минут, а минуту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на 60 секун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Использование числа 10 как основания системы счисления связано с тем, что у людей на руках 10 пальцев, которые удобнее всего было использовать при счете. Но основание системы счисления, конечно, может быть любым числом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Например, современные ЭВМ (электронно-вычислительные машины) считают в двоичной системе (основание 2), так как при этом используются только два состояния: «есть сигнал» и «нет сигнала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3816360" cy="1873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87280" y="4725720"/>
            <a:ext cx="247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На рисунке показано, как в этой системе выглядела запись некоторых чис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020000" y="476280"/>
            <a:ext cx="15793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1fd4f"/>
                </a:solidFill>
                <a:latin typeface="Arial"/>
              </a:rPr>
              <a:t>Десятичные дроб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науке и промышленности, в сельском хозяйстве при расчетах десятичные дроби используются значительно чаще, чем обыкновенны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Это связано с простотой правил вычислений с десятичными дробями, похожестью их на правила действий с натуральными числ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равила вычислений с десятичными дробями описал знаменитый ученый средневековья а л ь К а ш и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Д ж е м ш и д  И б н  М а с у д, работавший в городе Самарканде в обсерватории Улугбека в начале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959360" y="1773360"/>
            <a:ext cx="32353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1fd4f"/>
                </a:solidFill>
                <a:latin typeface="Arial"/>
              </a:rPr>
              <a:t>Десятичные дроб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Записывал алъ-Каши десятичные дроби так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е,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к принято сейчас», но он не пользовался запятой: дробную часть он записывал красными чернилами или отделял вертикальной черт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о об этом в Европе в то время не узнали, и только через 150 лет десятичные дроби были заново изобретены фламандским инженером и ученым Симоном Стевин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тевин записывал десятичные дроби довольно слож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апример, число 24,56 выглядело так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0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 456 —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место запятой нуль над целой частью, цифрами 1, 2, 3, ... помечалось положение остальных зна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Запятая или точка для отделения целой части стали использоваться с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XVII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России учение о десятичных дробях изложил Леонтий Филиппович Магницкий в 1703 году в первом учебнике математики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Арифметика, сиречь наука числительная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bbd71"/>
                </a:solidFill>
                <a:latin typeface="Arial"/>
              </a:rPr>
              <a:t>Первыми «вычислительными устройствами», которыми пользовались в древности люди, были пальцы рук и камешки. Позднее появились бирки с зарубками и веревки с узелками.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75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 Древнем Египте и Древней Греции задолго до нашей эры использовали абак — доску с полосками, по которым передвигались камешки. Это было первое устройство, специально предназначенное для вычислений. Со временем абак совершенствовал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 римском абаке камешки или шарики передвигались по желобкам (от римлян к нам перешло слово «калькуляция», означающее буквально «счет камешками»); в китайских счетах «суан-пан» и японских «соробан» шарики были нанизаны на прутики. Абак просуществовал до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XVII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ека, когда его заменили письменные вычисления. Русский абак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четы появились в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еке, ими пользуются и в наши дни. Большое преимущество русских счетов в том, что они основаны на десятичной системе счисления, а не на пятеричной, как все остальные аба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384720" cy="3041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219640" y="4724280"/>
            <a:ext cx="1057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ый арифмометр, выполнявший все четыре арифметических действия, создал в 1673 г. немецкий физик, изобретатель и математик Г о т ф р и д Вильгельм Лейбниц. Наиболее совершенный для того времени арифмометр изобрел в 1878 г. великий русский математик Пафнутий Львович Ч е б ы ш ё в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оздание миниатюрных ЭВМ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икрокалькуляторов — стало возможно после того, как были разработаны способы изготовления электронных схем, содержащих тысячи транзисторов и других элементов на пластинке размером с ноготь 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1fd4f"/>
                </a:solidFill>
                <a:latin typeface="Arial"/>
              </a:rPr>
              <a:t>Проценты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лово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2000" spc="-1" strike="noStrike">
                <a:solidFill>
                  <a:srgbClr val="81fd4f"/>
                </a:solidFill>
                <a:latin typeface="Tahoma"/>
              </a:rPr>
              <a:t>процент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оисходит от латинских слов рго сеп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tum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, что буквально означ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«со ст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оценты дают возможность легко сравнивать между собой части целого, упрощают расчеты и поэтому очень распростране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Широко начали использовать проценты в Древнем Риме, но идея процентов возникла много раньш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авилонские ростовщики уже умели находить процен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319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но они считали не «со ста», а «с шестидесяти», так как в Вавилоне пользовались шестидесятеричными дробям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Знак % произошел, как предполагают, благодаря опечатке. В рукописях рго сепшт часто заменяли сло­вом «сеп!о» (сто) и писали его сокращенно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1о. В 1685 году в Париже была напечатана книга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руководство по коммерческой арифметике, где по ошибке наборщик вместо с1о набрал %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осле этой ошибки многие математики также стали употреблять знак % для обозначения процен­тов, и постепенно он получил всеобщее призн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ногда применяют и более мелкие доли целого 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ысячные,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о есть десятые части процента. Их назы­ваю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милле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от латинского «с тысячи») и обозначают %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4f755"/>
                </a:solidFill>
                <a:latin typeface="Arial"/>
              </a:rPr>
              <a:t>Метрическая система мер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200 лет назад в разных странах, в том числе и в России, применялись различные системы единиц для измерения длины, массы и других величин. Соотношения между мерами были сложны, существовали разные определения для единиц измерения. Например, и до сих пор в Великобритании существуют две различные «тонны» (в 2000 и в 2940 фунтов), более 50 различных «бушелей» и т. п. Это затрудняло развитие науки, торговли между странами. Поэтому назрела необходимость введения единой системы мер, удобной для всех стран, с простыми соотношениями между единиц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акая система — ее назвали </a:t>
            </a:r>
            <a:r>
              <a:rPr b="1" lang="ru-RU" sz="2000" spc="-1" strike="noStrike" u="sng">
                <a:solidFill>
                  <a:srgbClr val="81fd4f"/>
                </a:solidFill>
                <a:uFillTx/>
                <a:latin typeface="Tahoma"/>
              </a:rPr>
              <a:t>метрической системой мер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ыла разработана во Франции. Основную единицу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лины, 1 метр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(от греческого слова «метрон»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мера), определили как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рокамиллионную долю окружности Земли,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сновную единицу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ассы, 1 кг —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ак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ассу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1 дм3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истой воды.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стальные единицы определялись через эти две, соотношения между единицами одной величины равнялись 10, 100, 1000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fd4f"/>
                </a:solidFill>
                <a:latin typeface="Arial"/>
              </a:rPr>
              <a:t>Единицы измерения длины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В Древней Руси в качестве единиц измерения длины применялись: косая сажень (248 см) — расстояние от пальцев левой ноги до конца пальцев поднятой правой руки; маховая сажень (176 см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—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расстояние между концами пальцев расставленных в стороны рук; локоть (45 см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расстояние от концов пальцев до локтя согнутой ру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417920" y="3141720"/>
            <a:ext cx="47260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1fd4f"/>
                </a:solidFill>
                <a:latin typeface="Arial"/>
              </a:rPr>
              <a:t>Геометрические фигуры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Вы научились измерять длины отрезков и величины углов, площади некоторых многоугольников и объемы прямоугольных параллелепипедов. Все эти фигуры называются </a:t>
            </a:r>
            <a:r>
              <a:rPr b="1" lang="en-US" sz="1800" spc="-1" strike="noStrike">
                <a:solidFill>
                  <a:srgbClr val="81fd4f"/>
                </a:solidFill>
                <a:latin typeface="Tahoma"/>
              </a:rPr>
              <a:t>геометрическими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геометрическими фигурами имели дело с древних времен и крестьяне, и ремесленники, и строители храмов, дворцов и пирамид. Надо было уметь измерять площади земельных участк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подсчитывать объем корзин, которыми собирали урожай, определять, сколько камня потребуется для здания. А чтобы здание не рушилось, стены надо было возводить под прямым углом к поверхности земли. Астрономам древности необходимо было измерять углы для определения положения небесных свет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Особенно быстро знания о свойствах фигур развивались в Древнем Египте. В этом государстве все земледелие было сосредоточено на очень узкой полосе земли — в долине реки Нил. Земли было мало, за участок крестьянин ежегодно платил соответствующий налог фарао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Каждую весну Нил разливался и удобрял землю плодородным илом. Но при разливе смывались границы участков, менялись их площад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Тогда пострадавшие обращались к фараону, а фараон посылал землемеров, чтобы восстановить границы участков, выяснить, как изменилась их площадь, и установить размер нало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93080" y="5877000"/>
            <a:ext cx="18716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1fd4f"/>
                </a:solidFill>
                <a:latin typeface="Arial"/>
              </a:rPr>
              <a:t>Геометрия - наука о геометрических фигурах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41716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В Древнем Египте развивались и строительное искусство, торговля. Знания постепенно накапливались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истематизировалис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Около 4 тыс. лет назад возникла наука об измерении расстояний, площадей и объемов, о свойствах различных фигур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Так как в основном речь шла о земельных участках, то древние греки, узнавшие об этой науке от египтян, назвали ее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еометрией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(по-гречески «гео»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земля, а «метрео»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измеряю. Значит, «</a:t>
            </a:r>
            <a:r>
              <a:rPr b="0" i="1" lang="ru-RU" sz="1600" spc="-1" strike="noStrike">
                <a:solidFill>
                  <a:srgbClr val="81fd4f"/>
                </a:solidFill>
                <a:latin typeface="Tahoma"/>
              </a:rPr>
              <a:t>геометрия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» буквально означает «землемерие»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Греческие ученые узнали много новых свойств геометрических фигур, и уже тогда геометрией стали называть науку о геометрических фигурах, а для науки об измерении Земли ввели другое название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1600" spc="-1" strike="noStrike">
                <a:solidFill>
                  <a:srgbClr val="81fd4f"/>
                </a:solidFill>
                <a:latin typeface="Tahoma"/>
              </a:rPr>
              <a:t>геодезия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» (происходи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от греческих слов «деление земли»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788000" y="2489040"/>
            <a:ext cx="4105080" cy="2783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692360" y="5950080"/>
            <a:ext cx="13320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1fd4f"/>
                </a:solidFill>
                <a:latin typeface="Arial"/>
              </a:rPr>
              <a:t>Измерение углов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Измерение углов в градусах появилось более 3 тыс. лет назад в Вавилоне. В расчетах там использовались шестидесятеричная система счисления, шестидесятеричные дроби. С этим связано, что вавилонские математики и астрономы, а вслед за ними греческие и индийские, полный оборот (окружность) делили на 360 частей -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градусов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шесть раз по шестьдесят), каждый градус -на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60 минут,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а минуту — на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60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секунд: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1° = 60' , 1' = 6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3711600" cy="3744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435640" y="649116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04000" y="551664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148428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Слово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«</a:t>
            </a:r>
            <a:r>
              <a:rPr b="1" lang="en-US" sz="1800" spc="-1" strike="noStrike">
                <a:solidFill>
                  <a:srgbClr val="81fd4f"/>
                </a:solidFill>
                <a:latin typeface="Tahoma"/>
              </a:rPr>
              <a:t>градус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» —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атинское, означает «шаг», «ступень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1fd4f"/>
                </a:solidFill>
                <a:latin typeface="Arial"/>
              </a:rPr>
              <a:t>Измерение углов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XVIII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ека при разработке метрической системы мер французские ученые предложили делить прямой угол не на 90, а на 100 частей. Такой угол в прямого угла называю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град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90° = 100 гр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градах измеряют углы в геодезии, этой единицей пользуются в некоторых строительных расчетах, но широкого распространения она не получи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ля точного измерения углов созданы различные инструменты. Основная часть этих приборов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шкала, похожая на шкалу транспорт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1fd4f"/>
                </a:solidFill>
                <a:latin typeface="Arial"/>
              </a:rPr>
              <a:t>Единицы измерения объем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а Руси в старину использовались в качест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единиц измерения объема </a:t>
            </a:r>
            <a:r>
              <a:rPr b="0" lang="en-US" sz="2800" spc="-1" strike="noStrike">
                <a:solidFill>
                  <a:srgbClr val="81fd4f"/>
                </a:solidFill>
                <a:latin typeface="Tahoma"/>
              </a:rPr>
              <a:t>ведро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около 12 л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1fd4f"/>
                </a:solidFill>
                <a:latin typeface="Tahoma"/>
              </a:rPr>
              <a:t>штоф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десятая часть ведра). В США, Англии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ругих странах используются </a:t>
            </a:r>
            <a:r>
              <a:rPr b="0" lang="en-US" sz="2800" spc="-1" strike="noStrike">
                <a:solidFill>
                  <a:srgbClr val="81fd4f"/>
                </a:solidFill>
                <a:latin typeface="Tahoma"/>
              </a:rPr>
              <a:t>баррель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око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159 л), </a:t>
            </a:r>
            <a:r>
              <a:rPr b="0" lang="en-US" sz="2800" spc="-1" strike="noStrike">
                <a:solidFill>
                  <a:srgbClr val="81fd4f"/>
                </a:solidFill>
                <a:latin typeface="Tahoma"/>
              </a:rPr>
              <a:t>галло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около 4 л), </a:t>
            </a:r>
            <a:r>
              <a:rPr b="0" lang="en-US" sz="2800" spc="-1" strike="noStrike">
                <a:solidFill>
                  <a:srgbClr val="81fd4f"/>
                </a:solidFill>
                <a:latin typeface="Tahoma"/>
              </a:rPr>
              <a:t>бушел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окол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36 л), </a:t>
            </a:r>
            <a:r>
              <a:rPr b="0" lang="en-US" sz="2800" spc="-1" strike="noStrike">
                <a:solidFill>
                  <a:srgbClr val="81fd4f"/>
                </a:solidFill>
                <a:latin typeface="Tahoma"/>
              </a:rPr>
              <a:t>пинт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от 470 до 568 кубическ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сантиметров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Сравните эти единиц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Какие из них больше 1 м 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4788000" y="53006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1fd4f"/>
                </a:solidFill>
                <a:latin typeface="Arial"/>
              </a:rPr>
              <a:t>Метрическая система мер принята большинством стран мира. В России ее введение началось с 1899 года. Большие заслуги во введении и распространении метрической системы мер в нашей стране принадлежат Дмитрию Ивановичу Менделееву, </a:t>
            </a:r>
            <a:br>
              <a:rPr sz="2000"/>
            </a:br>
            <a:r>
              <a:rPr b="0" i="1" lang="en-US" sz="2000" spc="-1" strike="noStrike">
                <a:solidFill>
                  <a:srgbClr val="81fd4f"/>
                </a:solidFill>
                <a:latin typeface="Arial"/>
              </a:rPr>
              <a:t>великому русскому химику.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днако по традиции и в настоящее время иногда пользуются старыми единицами. Моряки измеряют расстояния </a:t>
            </a:r>
            <a:r>
              <a:rPr b="1" lang="en-US" sz="2000" spc="-1" strike="noStrike">
                <a:solidFill>
                  <a:srgbClr val="81fd4f"/>
                </a:solidFill>
                <a:latin typeface="Tahoma"/>
              </a:rPr>
              <a:t>милями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(1852 м) и </a:t>
            </a:r>
            <a:r>
              <a:rPr b="1" lang="en-US" sz="2000" spc="-1" strike="noStrike">
                <a:solidFill>
                  <a:srgbClr val="81fd4f"/>
                </a:solidFill>
                <a:latin typeface="Tahoma"/>
              </a:rPr>
              <a:t>кабельтовыми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(десятая часть мили, то есть около 185 м), скорость -</a:t>
            </a:r>
            <a:r>
              <a:rPr b="1" lang="en-US" sz="2000" spc="-1" strike="noStrike">
                <a:solidFill>
                  <a:srgbClr val="81fd4f"/>
                </a:solidFill>
                <a:latin typeface="Tahoma"/>
              </a:rPr>
              <a:t>узлами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(1 миля в час). Массу алмазов измеряют в </a:t>
            </a:r>
            <a:r>
              <a:rPr b="1" lang="en-US" sz="2000" spc="-1" strike="noStrike">
                <a:solidFill>
                  <a:srgbClr val="81fd4f"/>
                </a:solidFill>
                <a:latin typeface="Tahoma"/>
              </a:rPr>
              <a:t>каратах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(200 мг, то есть пятая часть грамма — масса пшеничного зерна). Объем нефти измеряют в </a:t>
            </a:r>
            <a:r>
              <a:rPr b="1" lang="en-US" sz="2000" spc="-1" strike="noStrike">
                <a:solidFill>
                  <a:srgbClr val="81fd4f"/>
                </a:solidFill>
                <a:latin typeface="Tahoma"/>
              </a:rPr>
              <a:t>баррелях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(159 л)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340000" cy="2736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4360" y="46130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митрий Иванович Менделе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1834-19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81fd4f"/>
                </a:solidFill>
                <a:latin typeface="Arial"/>
              </a:rPr>
              <a:t>Андрей Николаевич Колмогоров </a:t>
            </a:r>
            <a:br>
              <a:rPr sz="2800"/>
            </a:br>
            <a:r>
              <a:rPr b="1" lang="en-US" sz="2800" spc="-1" strike="noStrike">
                <a:solidFill>
                  <a:srgbClr val="81fd4f"/>
                </a:solidFill>
                <a:latin typeface="Arial"/>
              </a:rPr>
              <a:t>(1903-1987)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34920" y="1125360"/>
            <a:ext cx="476244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ыдающийся советский математик академик Андрей Николаевич Колмогоров решил много сложнейших задач, совершил не одно открытие ‘в различных разделах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овременной математики. Но радость своих первых математических «открытий» он познал рано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ндрей Николаевич рассказывал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что еще до поступления в гимназию в возрасте пяти-шести лет он любил придумывать задачи, подмечал интересные свойства чисел. Эти «открытия» публиковались в домашнем журнале. Вот одно из «открытий» шестилетнего Колмогорова. Он заметил, что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2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 1,                  2* = 1 + 3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2 = 1 + 3 + 5,     42 =1 + 3 + 5 +7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2674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1fd4f"/>
                </a:solidFill>
                <a:latin typeface="Arial"/>
              </a:rPr>
              <a:t>Единицы длины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39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ервые единицы длины в России, так и в других странах были связаны с размерами частей тела человека. Таковы </a:t>
            </a:r>
            <a:r>
              <a:rPr b="1" i="1" lang="ru-RU" sz="1800" spc="-1" strike="noStrike">
                <a:solidFill>
                  <a:srgbClr val="81fd4f"/>
                </a:solidFill>
                <a:latin typeface="Tahoma"/>
              </a:rPr>
              <a:t>сажень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1800" spc="-1" strike="noStrike">
                <a:solidFill>
                  <a:srgbClr val="81fd4f"/>
                </a:solidFill>
                <a:latin typeface="Tahoma"/>
              </a:rPr>
              <a:t>локоть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1800" spc="-1" strike="noStrike">
                <a:solidFill>
                  <a:srgbClr val="81fd4f"/>
                </a:solidFill>
                <a:latin typeface="Tahoma"/>
              </a:rPr>
              <a:t>пядь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. В Англии и США до сих пор используется «ступня»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lang="ru-RU" sz="1800" spc="-1" strike="noStrike">
                <a:solidFill>
                  <a:srgbClr val="81fd4f"/>
                </a:solidFill>
                <a:latin typeface="Tahoma"/>
              </a:rPr>
              <a:t>фут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(31 см), «большой палец» — </a:t>
            </a:r>
            <a:r>
              <a:rPr b="1" lang="ru-RU" sz="1800" spc="-1" strike="noStrike">
                <a:solidFill>
                  <a:srgbClr val="81fd4f"/>
                </a:solidFill>
                <a:latin typeface="Tahoma"/>
              </a:rPr>
              <a:t>дюй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(25 мм) и даже </a:t>
            </a:r>
            <a:r>
              <a:rPr b="1" lang="ru-RU" sz="1800" spc="-1" strike="noStrike">
                <a:solidFill>
                  <a:srgbClr val="81fd4f"/>
                </a:solidFill>
                <a:latin typeface="Tahoma"/>
              </a:rPr>
              <a:t>ярд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(91 см) -единица длины, появившаяся почти 900 лет назад. Она была равна расстоянию от кончика носа короля Генриха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до конца пальцев его вытянутой руки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Для измерения больших расстояний на Руси использовали единицу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1800" spc="-1" strike="noStrike">
                <a:solidFill>
                  <a:srgbClr val="81fd4f"/>
                </a:solidFill>
                <a:latin typeface="Tahoma"/>
              </a:rPr>
              <a:t>поприще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замененную позже </a:t>
            </a:r>
            <a:r>
              <a:rPr b="1" lang="ru-RU" sz="1800" spc="-1" strike="noStrike">
                <a:solidFill>
                  <a:srgbClr val="81fd4f"/>
                </a:solidFill>
                <a:latin typeface="Tahoma"/>
              </a:rPr>
              <a:t>верст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(в разных местностях версту считали по-разному - от 500 до 750 сажен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38560" y="1784520"/>
            <a:ext cx="3257640" cy="4162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19640" y="170028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Tahoma"/>
              </a:rPr>
              <a:t>яр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bbd71"/>
                </a:solidFill>
                <a:latin typeface="Arial"/>
              </a:rPr>
              <a:t>От восточных купцов пошла единица </a:t>
            </a:r>
            <a:r>
              <a:rPr b="1" lang="en-US" sz="2000" spc="-1" strike="noStrike">
                <a:solidFill>
                  <a:srgbClr val="dbbd71"/>
                </a:solidFill>
                <a:latin typeface="Arial"/>
              </a:rPr>
              <a:t>«аршин» </a:t>
            </a:r>
            <a:r>
              <a:rPr b="1" i="1" lang="en-US" sz="2000" spc="-1" strike="noStrike">
                <a:solidFill>
                  <a:srgbClr val="dbbd71"/>
                </a:solidFill>
                <a:latin typeface="Arial"/>
              </a:rPr>
              <a:t>(тоже означает «локоть») </a:t>
            </a:r>
            <a:r>
              <a:rPr b="1" lang="en-US" sz="2000" spc="-1" strike="noStrike">
                <a:solidFill>
                  <a:srgbClr val="dbbd71"/>
                </a:solidFill>
                <a:latin typeface="Arial"/>
              </a:rPr>
              <a:t>— </a:t>
            </a:r>
            <a:r>
              <a:rPr b="1" i="1" lang="en-US" sz="2000" spc="-1" strike="noStrike">
                <a:solidFill>
                  <a:srgbClr val="dbbd71"/>
                </a:solidFill>
                <a:latin typeface="Arial"/>
              </a:rPr>
              <a:t>существовали турецкий аршин, персидский аршин и др. Поэтому и возникла поговорка «мерить на свой аршин».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Множество единиц существовало и для измерения масс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аиболее древняя русская мера —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1800" spc="-1" strike="noStrike">
                <a:solidFill>
                  <a:srgbClr val="81fd4f"/>
                </a:solidFill>
                <a:latin typeface="Tahoma"/>
              </a:rPr>
              <a:t>гривн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ли «</a:t>
            </a:r>
            <a:r>
              <a:rPr b="1" i="1" lang="ru-RU" sz="1800" spc="-1" strike="noStrike">
                <a:solidFill>
                  <a:srgbClr val="81fd4f"/>
                </a:solidFill>
                <a:latin typeface="Tahoma"/>
              </a:rPr>
              <a:t>гривенка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» (около 410 г). Позднее появились </a:t>
            </a:r>
            <a:r>
              <a:rPr b="1" i="1" lang="ru-RU" sz="1800" spc="-1" strike="noStrike">
                <a:solidFill>
                  <a:srgbClr val="81fd4f"/>
                </a:solidFill>
                <a:latin typeface="Tahoma"/>
              </a:rPr>
              <a:t>золотники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1800" spc="-1" strike="noStrike">
                <a:solidFill>
                  <a:srgbClr val="81fd4f"/>
                </a:solidFill>
                <a:latin typeface="Tahoma"/>
              </a:rPr>
              <a:t>фунты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1800" spc="-1" strike="noStrike">
                <a:solidFill>
                  <a:srgbClr val="81fd4f"/>
                </a:solidFill>
                <a:latin typeface="Tahoma"/>
              </a:rPr>
              <a:t>пуды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связи с развитием торговли назрела необходимость установить четкие определения единиц и соотношения между ними. При Петре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усские меры были приведены в определенную систем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2060640"/>
            <a:ext cx="40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1 верста = 500 саженя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(1 км 67 ж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1 сажень = 3 аршин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(213 см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1 аршин = 16 вершкам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28 дюймам (71 с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1 фут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12 дюйм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(30 см 5 м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1 пуд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40 фунтам (гривенкам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(16 кг 400 г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1 фунт = 96 золотник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(410 г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14842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348000" y="1481040"/>
            <a:ext cx="1224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bbd71"/>
                </a:solidFill>
                <a:latin typeface="Arial"/>
              </a:rPr>
              <a:t>Немало различных способов записи чисел было создано людьми. В Древней Руси числа обозначали буквами с особым знаком «~» (титло), который писали над буквой.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ервые девять букв алфавита обозначали единицы, следующие девять букв — десятки, а последние девять букв — сотни. Число десять тысяч называли словом «тьма» (и теперь мы говорим: «народ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тьма тьмущая»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Современная достаточно простая и удобная десятичная система записи чисел была заимствована европейцами у арабов, которые в свою очередь переняли ее у индусов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bbd71"/>
                </a:solidFill>
                <a:latin typeface="Arial"/>
              </a:rPr>
              <a:t>Немало различных способов записи чисел было создано людьми. В Древней Руси числа обозначали буквами с особым знаком «~» (титло), который писали над буквой.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ервые девять букв алфавита обозначали единицы, следующие девять букв — десятки, а последние девять букв — сотни. Число десять тысяч называли словом «тьма» (и теперь мы говорим: «народ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ьма тьмущая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465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dbbd71"/>
                </a:solidFill>
                <a:latin typeface="Arial"/>
              </a:rPr>
              <a:t>Современная достаточно простая и удобная </a:t>
            </a:r>
            <a:r>
              <a:rPr b="0" i="1" lang="en-US" sz="2000" spc="-1" strike="noStrike">
                <a:solidFill>
                  <a:srgbClr val="81fd4f"/>
                </a:solidFill>
                <a:latin typeface="Arial"/>
              </a:rPr>
              <a:t>десятичная система записи чисел</a:t>
            </a:r>
            <a:r>
              <a:rPr b="0" i="1" lang="en-US" sz="2000" spc="-1" strike="noStrike">
                <a:solidFill>
                  <a:srgbClr val="dbbd71"/>
                </a:solidFill>
                <a:latin typeface="Arial"/>
              </a:rPr>
              <a:t> была заимствована европейцами у арабов, которые в свою очередь переняли ее у индусов.</a:t>
            </a:r>
            <a:r>
              <a:rPr b="0" lang="en-US" sz="2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оэтому цифры, которыми мы сейчас пользуемся, европейцы называют «арабскими», а араб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индийскими». Эта система была введена в Европе примерно в 1120 году английским ученым-путешественником Аделардом. К 1600 году она была принята в большинстве стран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Русские названия чисел тесно связаны с десятичной системой счисления. Например, семнадцать означает «семь на десять», семьдеся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семь десятков», а семьсо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семь сотен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0:35:05Z</dcterms:created>
  <dc:creator>terexova</dc:creator>
  <dc:description/>
  <dc:language>en-US</dc:language>
  <cp:lastModifiedBy>terexova</cp:lastModifiedBy>
  <dcterms:modified xsi:type="dcterms:W3CDTF">2007-11-11T14:23:53Z</dcterms:modified>
  <cp:revision>61</cp:revision>
  <dc:subject/>
  <dc:title>Слайд 1</dc:title>
</cp:coreProperties>
</file>