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gif" ContentType="image/gif"/>
  <Override PartName="/ppt/media/image5.png" ContentType="image/png"/>
  <Override PartName="/ppt/media/image6.gif" ContentType="image/gif"/>
  <Override PartName="/ppt/media/image8.gif" ContentType="image/gi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A093-ACE5-4178-A7F0-6AB67CFB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9F2E-B396-48DF-91E0-000029E2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7F6A-18B1-4B4B-8A10-AC23ECEEB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C23C-D3B3-4C8B-A85D-9D78BCF74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58CA-0D57-42C0-B605-B3D84E932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810A-BF2E-470D-9833-04D9EF05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3A44-5463-476F-A1E6-36A784C0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DA19-9198-4538-91E6-B897F033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BA44-FF74-493F-82FB-2CD0E1AE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8440-4B1D-406A-99A6-DD7FF6A0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CCA5-8495-43A1-AFC2-3223FDD6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0870-8E13-4930-AE16-8095B4C4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CDA8-68D4-46A7-B15B-A2E5B2CC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FE34-8900-4A0D-967D-CC787A41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1676-42F0-4AD5-AF82-655E98F8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3835-DF12-46F7-B1FE-7B90C0B1F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A307-F567-4B15-96A5-4FE85C130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5C6C-8644-432C-93A7-83E86285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36B3-C0F3-4B74-B737-1A20D819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413C-D4BD-4F69-A7EB-CBE1CE75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B910-F9CD-4E9C-A128-B083581D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1780-77EE-41EB-BD9E-60575C4D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77CA-DF64-4091-9C90-1053D4C8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9A93-43E2-4EC5-8CEF-84B84FA3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6C00-EED0-4405-AA6C-8D2C151FC8E3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0689-5E0A-4942-A759-15B780824EDC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ЪЕМЫ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ЪЕМ ПРЯМОУГОЛЬНОГО   ПАРАЛЛЕЛЕПИПЕД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V=abc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03640" y="3933720"/>
            <a:ext cx="2305080" cy="1357560"/>
          </a:xfrm>
          <a:prstGeom prst="cube">
            <a:avLst>
              <a:gd name="adj" fmla="val 25000"/>
            </a:avLst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24360" y="515772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93080" y="4653000"/>
            <a:ext cx="34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34160" y="4508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Формулу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=abc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ожно читать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азными способ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Если нужно напомнить правило, то говорят так:</a:t>
            </a:r>
            <a:br>
              <a:rPr sz="2000"/>
            </a:b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«Объем вэ прямоугольного параллелепипеда равен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произведению а, бэ и цэ (трех его измерений)»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Если нужно только прочитать запись формулы, то говорят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«Вэ равно</a:t>
            </a:r>
            <a:r>
              <a:rPr b="1" i="1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произведению а, бэ и цэ» ил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«вэ равно а бэ</a:t>
            </a:r>
            <a:r>
              <a:rPr b="1" i="1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цэ»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Названия единиц объема читают полностью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Например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292929"/>
                </a:solidFill>
                <a:latin typeface="Arial"/>
              </a:rPr>
              <a:t>15 </a:t>
            </a: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см — пятнадцать кубических сантиметров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292929"/>
                </a:solidFill>
                <a:latin typeface="Arial"/>
              </a:rPr>
              <a:t>1 м </a:t>
            </a: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= </a:t>
            </a:r>
            <a:r>
              <a:rPr b="1" i="1" lang="ru-RU" sz="2000" spc="-1" strike="noStrike">
                <a:solidFill>
                  <a:srgbClr val="292929"/>
                </a:solidFill>
                <a:latin typeface="Arial"/>
              </a:rPr>
              <a:t>1000 </a:t>
            </a: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дм — один кубический метр равен одной тысяче кубических дециметров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24000" y="4797360"/>
            <a:ext cx="2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36720" y="5084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60720" y="5084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Прямоугольный параллелепипед окрасили зеленой краской со всех сторон и разрезали - на кубики. Сколько зеленых граней у каждого кубика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111640" y="2060640"/>
            <a:ext cx="2803680" cy="3744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27280" y="260280"/>
            <a:ext cx="2087640" cy="1368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619280" y="260280"/>
            <a:ext cx="7621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Сравните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величины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Впишите знак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&lt;, = или &gt;.</a:t>
            </a:r>
            <a:br>
              <a:rPr sz="3200"/>
            </a:b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3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дм     2л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100л       1000дм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м         5000л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4л         40000см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692280"/>
            <a:ext cx="5810400" cy="504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086520" y="1916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102520" y="2997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26160" y="4005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029800" y="5013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ревянный брусок решили распилить на кубики с длиной ребра 1 см. Назовите размеры бруска: длина___см, ширина___см, высота___см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одном слое толщиной 1 см___куб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00000" y="2124000"/>
            <a:ext cx="3600720" cy="3578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5076720" y="2133720"/>
          <a:ext cx="3240360" cy="4039920"/>
        </p:xfrm>
        <a:graphic>
          <a:graphicData uri="http://schemas.openxmlformats.org/drawingml/2006/table">
            <a:tbl>
              <a:tblPr/>
              <a:tblGrid>
                <a:gridCol w="1621080"/>
                <a:gridCol w="16192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Число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слоев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Число кубиков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лощадь пола в комнате 15 м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сота комнаты 3 м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Сможете ли вы найти объем этой комнаты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332000" y="3933720"/>
            <a:ext cx="1962000" cy="1476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356000" y="2060640"/>
            <a:ext cx="4608720" cy="2087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948360" y="47628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Вычислите объемы кубов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476360" y="2276640"/>
          <a:ext cx="5078520" cy="3854160"/>
        </p:xfrm>
        <a:graphic>
          <a:graphicData uri="http://schemas.openxmlformats.org/drawingml/2006/table">
            <a:tbl>
              <a:tblPr/>
              <a:tblGrid>
                <a:gridCol w="1800720"/>
                <a:gridCol w="594360"/>
                <a:gridCol w="456120"/>
                <a:gridCol w="509400"/>
                <a:gridCol w="501480"/>
                <a:gridCol w="500040"/>
                <a:gridCol w="501840"/>
                <a:gridCol w="216000"/>
              </a:tblGrid>
              <a:tr h="955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Длина ребра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8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5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Объем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1" i="1" lang="en-US" sz="2400" spc="-1" strike="noStrike" baseline="30000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6516720" y="2924280"/>
            <a:ext cx="1511280" cy="1295280"/>
          </a:xfrm>
          <a:prstGeom prst="cube">
            <a:avLst>
              <a:gd name="adj" fmla="val 25000"/>
            </a:avLst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12000" y="5084640"/>
            <a:ext cx="1180800" cy="1143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021440" y="41497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10160" y="3429000"/>
            <a:ext cx="4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813800" y="3860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3119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Назовите в прямоугольном параллелепипед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981080"/>
            <a:ext cx="401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а) две грани, имеющие общее ребро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б)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верхнюю, заднюю, переднюю и нижнюю грани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в)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вертикальные ребра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240160" y="2133720"/>
            <a:ext cx="2594160" cy="3311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596360" y="4076640"/>
            <a:ext cx="34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10:18:53Z</dcterms:created>
  <dc:creator>terexova</dc:creator>
  <dc:description/>
  <dc:language>en-US</dc:language>
  <cp:lastModifiedBy>terexova</cp:lastModifiedBy>
  <dcterms:modified xsi:type="dcterms:W3CDTF">2007-12-15T20:15:38Z</dcterms:modified>
  <cp:revision>27</cp:revision>
  <dc:subject/>
  <dc:title>Слайд 1</dc:title>
</cp:coreProperties>
</file>