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ACD-FA9F-4D28-92A1-17443035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A9B0-8E42-499E-8F6B-C6F604C8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E3C-A88D-4134-8434-3082F5F3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86D-04DD-447F-8094-40B1B64C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E8B7-A792-443B-AAFF-8FDC29C6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F053-8A6A-451B-83DB-291D867A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8753-FCFB-4C13-9B29-F9B5B4F8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1EEB-2240-402B-907D-94ABCCCF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CAA4-6C7B-4902-B33E-4B5038FD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328A-5132-4A5F-8130-68F70D54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141D-BB91-40E9-9F07-0C8F676F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94F-1249-45C4-86BE-8F7CA5CB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9761-DBAB-4169-A824-91CAE120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3434-0B21-49CE-9A8C-064E7742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7385-3FCE-49B7-A26A-2F40DDDA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8416-CCAB-48EF-8848-33DF8122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9E66-11EA-4405-B1F0-B084865A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E2B-DD9C-4F75-AA1A-E8369801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669-6A78-44E0-9404-CE95B998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4910-A87F-408E-88BF-DA4E8745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D3D-3450-4605-9013-31E13324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86F-4D10-4E1D-B361-3DC5313A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D2A-E2C6-4A44-9CF0-55D5103D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B9F-1003-44F1-8542-1BB9C33E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2DA4-55AE-426B-B696-FA29AEDD1F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17D6-2F2D-40FB-A0CF-82E1B67A61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1197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ЯМОУГОЛЬНЫЙ ПАРАЛЛЕЛЕПИПЕД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076640"/>
            <a:ext cx="2736720" cy="1297080"/>
          </a:xfrm>
          <a:prstGeom prst="cube">
            <a:avLst>
              <a:gd name="adj" fmla="val 25000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35120" y="4149720"/>
            <a:ext cx="1163520" cy="12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ие предметы или части этих предметов имеют форму прямоугольного параллелепипеда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кажите и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4619520" cy="51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орт в форме прямоугольного параллелепипеда разрезали так, как показано на рисунке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ую фигуру представляет разрез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83272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уха села на одно из ребер деревянного бруска. Покажите грани, для которых это ребро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вляется общ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16360" y="2244600"/>
            <a:ext cx="468000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кажите верхнюю и нижнюю грани каждого прямоугольного параллелепипеда.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6360" y="2676600"/>
            <a:ext cx="2951280" cy="2112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580000" y="2421000"/>
            <a:ext cx="25210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кажите все вершины куба.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47640" y="2301840"/>
            <a:ext cx="2376720" cy="2332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03640" y="2276640"/>
            <a:ext cx="25210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пишите несколько путей, которые ведут по ребрам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куба из вершины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вершин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61280" y="200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50360" y="553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4520" y="220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216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708000" y="2492280"/>
            <a:ext cx="71640" cy="2449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708360" y="4869000"/>
            <a:ext cx="3095640" cy="72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916360" y="4941720"/>
            <a:ext cx="792000" cy="7923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4581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32720" y="465300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61280" y="532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3800" y="551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8:35:55Z</dcterms:created>
  <dc:creator>terexova</dc:creator>
  <dc:description/>
  <dc:language>en-US</dc:language>
  <cp:lastModifiedBy>terexova</cp:lastModifiedBy>
  <dcterms:modified xsi:type="dcterms:W3CDTF">2007-12-17T04:06:59Z</dcterms:modified>
  <cp:revision>21</cp:revision>
  <dc:subject/>
  <dc:title>Слайд 1</dc:title>
</cp:coreProperties>
</file>