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92C-1D84-4C9A-9008-7A30DFAA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E10-A05B-4494-B38E-5A73CCE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B0C-9625-4A71-BBCA-57D5B57E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C4A-6839-45B3-9447-EA1BB4B6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8AF0-F3A9-4356-8BC0-535D7C3A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1E84-3ED0-49D4-A6D6-B415480B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A2D-C5E9-4EE0-A820-6C02F23C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9AD8-882A-4EB3-9526-F0D99D3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7DA9-270B-4D4A-9F2C-656EB3CC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FF36-082C-4831-94F3-A58559E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FB9B-A75E-4711-B4B4-E9C3191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942-7978-4677-A4E5-C195B648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0CB-F8AE-48D6-AA12-5E56496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9BE4-D8BD-471B-B045-CEEE68F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760C-2E7A-4353-B5C9-799D559B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4CA9-0440-4E63-849B-8AFEDFFC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F5E2-7D15-440C-9D82-BAB135AF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043-B583-4B9C-8C08-29090725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B7E-53A3-4542-B900-4760381A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5C2-9E1D-4523-8CF5-A5DBF0B9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D15-55E2-44C2-8349-E1821CA7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661-F21E-4749-972F-3E5BF26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E95-F5DB-4372-A684-96A0C49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9E6-163E-492B-82BF-716D971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437C-7119-4D8B-8895-0E070424730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CBD6-6098-41A9-8B39-42115278B76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ВАДРАТ И КУБ ЧИСЛ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08720" y="3676680"/>
            <a:ext cx="2158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217872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Произведение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 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называют 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кубом числа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и обозначают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(читают: «эн в кубе»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Итак,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314172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40766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00000" y="1989000"/>
          <a:ext cx="7661520" cy="4248000"/>
        </p:xfrm>
        <a:graphic>
          <a:graphicData uri="http://schemas.openxmlformats.org/drawingml/2006/table">
            <a:tbl>
              <a:tblPr/>
              <a:tblGrid>
                <a:gridCol w="674640"/>
                <a:gridCol w="649440"/>
                <a:gridCol w="647640"/>
                <a:gridCol w="635040"/>
                <a:gridCol w="647640"/>
                <a:gridCol w="660600"/>
                <a:gridCol w="649080"/>
                <a:gridCol w="619200"/>
                <a:gridCol w="649440"/>
                <a:gridCol w="658800"/>
                <a:gridCol w="747720"/>
                <a:gridCol w="422280"/>
              </a:tblGrid>
              <a:tr h="74196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38504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ислите квадрат и куб каждого из чисел; запишите результаты в таблиц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48960" y="1981080"/>
          <a:ext cx="7661160" cy="4114800"/>
        </p:xfrm>
        <a:graphic>
          <a:graphicData uri="http://schemas.openxmlformats.org/drawingml/2006/table"/>
        </a:graphic>
      </p:graphicFrame>
      <p:graphicFrame>
        <p:nvGraphicFramePr>
          <p:cNvPr id="99" name=""/>
          <p:cNvGraphicFramePr/>
          <p:nvPr/>
        </p:nvGraphicFramePr>
        <p:xfrm>
          <a:off x="1547640" y="1989000"/>
          <a:ext cx="6192720" cy="4102920"/>
        </p:xfrm>
        <a:graphic>
          <a:graphicData uri="http://schemas.openxmlformats.org/drawingml/2006/table">
            <a:tbl>
              <a:tblPr/>
              <a:tblGrid>
                <a:gridCol w="603720"/>
                <a:gridCol w="1002240"/>
                <a:gridCol w="1087920"/>
                <a:gridCol w="1122120"/>
                <a:gridCol w="1169640"/>
                <a:gridCol w="120708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роизведение чисел в виде квадрата или куба числ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5 • 25=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50 • 150 • 150=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8 • 68 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х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х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х 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а • а 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(х + у)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(х + у) 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числите квадрат и куб числа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00 = 100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100 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00 = 100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00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00 =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3080" y="18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3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а стороны квадрата 8 м. Вычислите его площадь и периметр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лощадь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ериметр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55680" y="1981080"/>
            <a:ext cx="375444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64000" y="1989000"/>
            <a:ext cx="2951280" cy="26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4914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ором огородили участок в форме квадрата площадью 400 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Чему равна длина стороны этого участка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2421000"/>
            <a:ext cx="2879640" cy="2663640"/>
          </a:xfrm>
          <a:prstGeom prst="rect">
            <a:avLst/>
          </a:prstGeom>
          <a:solidFill>
            <a:srgbClr val="00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19640" y="2071800"/>
            <a:ext cx="3240000" cy="301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81800" y="62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04640"/>
            <a:ext cx="715788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авните значения выражени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6 + 3)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62 + 32;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10 —5)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02 —52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Результат сравнения двух чисел записывают в виде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неравенства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рименяя знаки &lt; (меньше) и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&gt;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больше). Например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4 &lt; 7, 8 &gt; 7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2132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Произведение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называют 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квадратом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числа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и обозначают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(читают: «эн в квадрате»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Итак,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263700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928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06:39Z</dcterms:created>
  <dc:creator>terexova</dc:creator>
  <dc:description/>
  <dc:language>en-US</dc:language>
  <cp:lastModifiedBy>terexova</cp:lastModifiedBy>
  <dcterms:modified xsi:type="dcterms:W3CDTF">2007-12-17T14:39:30Z</dcterms:modified>
  <cp:revision>19</cp:revision>
  <dc:subject/>
  <dc:title>КВАДРАТ И КУБ ЧИСЛА </dc:title>
</cp:coreProperties>
</file>